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333159F-FA72-42F1-AFE4-CED4005CC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908A-A56D-40B2-8939-C0AA79E9C1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595680" y="6324480"/>
            <a:ext cx="329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oct 23rd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D633-9AB6-4026-8924-04EC85C24D1C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2E2B04A8-B734-4B0D-B51B-EBD04E3532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AF88-9C8D-4953-80E2-9310EE462D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5680" y="6324480"/>
            <a:ext cx="329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oct 23rd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4CB4-F261-49DA-89E6-3042087400BE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ahoma"/>
              </a:rPr>
              <a:t>EPITA</a:t>
            </a:r>
            <a:br>
              <a:rPr sz="3600"/>
            </a:br>
            <a:br>
              <a:rPr sz="36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T Market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ic Finance and Marketing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Lecture #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Oct 23rd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Jean-Noël GOR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Servic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2286000"/>
            <a:ext cx="8964720" cy="25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ich and diversified universe =&gt; Segmentation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trategic analysis tool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ifferent criteria  and approaches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storical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business models»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obal coverage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stomer demand or perception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804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fessional Services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assic academic segmentation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1d13eb"/>
                </a:solidFill>
                <a:latin typeface="Tahoma"/>
              </a:rPr>
              <a:t>Tangibility/Commit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433520" y="3200400"/>
            <a:ext cx="7240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10080" y="2671920"/>
            <a:ext cx="0" cy="34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41960" y="2671920"/>
            <a:ext cx="0" cy="34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03360" y="4648320"/>
            <a:ext cx="717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97200" y="2565360"/>
            <a:ext cx="1924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RESULTS</a:t>
            </a:r>
            <a:r>
              <a:rPr b="1" lang="en-US" sz="2400" spc="-1" strike="noStrike">
                <a:solidFill>
                  <a:srgbClr val="1d13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91080" y="2492280"/>
            <a:ext cx="1573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77680" y="3429000"/>
            <a:ext cx="262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TAN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4600" y="4797360"/>
            <a:ext cx="262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TAN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4797360"/>
            <a:ext cx="244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specs &amp; pric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06560" y="4937040"/>
            <a:ext cx="174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l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0200" y="3284640"/>
            <a:ext cx="1489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cop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81720" y="3197160"/>
            <a:ext cx="2077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ro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 a c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81280" y="2209680"/>
            <a:ext cx="71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63760" y="3352680"/>
            <a:ext cx="731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10160" y="2824200"/>
            <a:ext cx="0" cy="32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2040" y="282420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27160" y="4800600"/>
            <a:ext cx="674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7280" y="287964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0040" y="2879640"/>
            <a:ext cx="1250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5760" y="379404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5760" y="501336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96400" y="5013360"/>
            <a:ext cx="239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Actors/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2160" y="3716280"/>
            <a:ext cx="2288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Final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12600" y="3500280"/>
            <a:ext cx="225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Resources </a:t>
            </a:r>
            <a:br>
              <a:rPr sz="3200"/>
            </a:b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3440" y="5013360"/>
            <a:ext cx="2734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39152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fessional Services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513360" y="1773360"/>
            <a:ext cx="274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Customer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Perce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ic academic segmentation : </a:t>
            </a:r>
            <a:r>
              <a:rPr b="1" lang="en-US" sz="1600" spc="-1" strike="noStrike">
                <a:solidFill>
                  <a:srgbClr val="1d13eb"/>
                </a:solidFill>
                <a:latin typeface="Tahoma"/>
              </a:rPr>
              <a:t>Tangibility/Commitm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97120" y="2209680"/>
            <a:ext cx="71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9600" y="3352680"/>
            <a:ext cx="731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6000" y="2824200"/>
            <a:ext cx="0" cy="32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285264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43000" y="4800600"/>
            <a:ext cx="674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3120" y="287964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55880" y="2879640"/>
            <a:ext cx="1250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61600" y="379404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61600" y="501336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27640" y="4797360"/>
            <a:ext cx="2600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management</a:t>
            </a:r>
            <a:br>
              <a:rPr sz="2800"/>
            </a:b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Compe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64240" y="3357720"/>
            <a:ext cx="2090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Volumes</a:t>
            </a:r>
            <a:br>
              <a:rPr sz="2800"/>
            </a:b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Economies </a:t>
            </a:r>
            <a:br>
              <a:rPr sz="2800"/>
            </a:b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05520" y="3357720"/>
            <a:ext cx="3338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Maintenance</a:t>
            </a:r>
            <a:br>
              <a:rPr sz="2800"/>
            </a:br>
            <a:r>
              <a:rPr b="0" lang="fr-FR" sz="2800" spc="-1" strike="noStrike">
                <a:solidFill>
                  <a:srgbClr val="1d13eb"/>
                </a:solidFill>
                <a:latin typeface="Arial"/>
              </a:rPr>
              <a:t>Loca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75240" y="4869000"/>
            <a:ext cx="240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R&amp;D</a:t>
            </a:r>
            <a:br>
              <a:rPr sz="2800"/>
            </a:b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d13eb"/>
                </a:solidFill>
                <a:latin typeface="Tahoma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1560" y="2205000"/>
            <a:ext cx="246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d13eb"/>
                </a:solidFill>
                <a:latin typeface="Tahoma"/>
              </a:rPr>
              <a:t>Key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d13eb"/>
                </a:solidFill>
                <a:latin typeface="Tahoma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71600" y="1294920"/>
            <a:ext cx="759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ic academic segmentation :</a:t>
            </a: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1d13eb"/>
                </a:solidFill>
                <a:latin typeface="Tahoma"/>
              </a:rPr>
              <a:t>Tangibility/Commitment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39152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fessional Services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30240" y="2209680"/>
            <a:ext cx="713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12720" y="3352680"/>
            <a:ext cx="731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59120" y="2824200"/>
            <a:ext cx="0" cy="32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91360" y="2824200"/>
            <a:ext cx="0" cy="31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76480" y="4800600"/>
            <a:ext cx="674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26600" y="2879640"/>
            <a:ext cx="157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89360" y="2879640"/>
            <a:ext cx="1250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95080" y="379404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95080" y="5013360"/>
            <a:ext cx="21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42400" y="4797360"/>
            <a:ext cx="28947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+ commitments,</a:t>
            </a:r>
            <a:br>
              <a:rPr sz="2800"/>
            </a:b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Partnering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05760" y="3716280"/>
            <a:ext cx="282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6880" y="3500280"/>
            <a:ext cx="26510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Predictability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97560" y="4797360"/>
            <a:ext cx="2463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3eb"/>
                </a:solidFill>
                <a:latin typeface="Tahoma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90880" y="2133720"/>
            <a:ext cx="2108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Clas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13eb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332000" y="12949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ic academic segmentation : </a:t>
            </a:r>
            <a:r>
              <a:rPr b="1" lang="en-US" sz="1600" spc="-1" strike="noStrike">
                <a:solidFill>
                  <a:srgbClr val="1d13eb"/>
                </a:solidFill>
                <a:latin typeface="Tahoma"/>
              </a:rPr>
              <a:t>Tangibility/Commitment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39152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fessional Services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Tahoma"/>
              </a:rPr>
              <a:t>Historical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779400" y="1568520"/>
            <a:ext cx="174636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55520" y="358128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36600" y="526428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evious week V.I.P.</a:t>
            </a:r>
            <a:br>
              <a:rPr sz="3200"/>
            </a:br>
            <a:r>
              <a:rPr b="1" lang="fr-FR" sz="2000" spc="-1" strike="noStrike">
                <a:solidFill>
                  <a:srgbClr val="000099"/>
                </a:solidFill>
                <a:latin typeface="Tahoma"/>
              </a:rPr>
              <a:t>(Very Important Points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64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oftware service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usiness basic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Fondement du « business model » dit « un homme, une heure, un euro », ou 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(1xn)  (1xt)  (1xp) = Revenues (CA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1" lang="fr-FR" sz="2000" spc="-1" strike="noStrike">
                <a:solidFill>
                  <a:srgbClr val="ff0066"/>
                </a:solidFill>
                <a:latin typeface="Tahoma"/>
              </a:rPr>
              <a:t>effectif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T = taux d’activité, rapport entre jours (heures) facturés et jours (heures) facturables, bref le « </a:t>
            </a:r>
            <a:r>
              <a:rPr b="1" lang="fr-FR" sz="2000" spc="-1" strike="noStrike">
                <a:solidFill>
                  <a:srgbClr val="00ae00"/>
                </a:solidFill>
                <a:latin typeface="Tahoma"/>
              </a:rPr>
              <a:t>tace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 »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P = prix, tarif, </a:t>
            </a:r>
            <a:r>
              <a:rPr b="1" lang="fr-FR" sz="2000" spc="-1" strike="noStrike">
                <a:solidFill>
                  <a:srgbClr val="1d13eb"/>
                </a:solidFill>
                <a:latin typeface="Tahoma"/>
              </a:rPr>
              <a:t>tj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00000" y="3502080"/>
            <a:ext cx="1776240" cy="1758960"/>
            <a:chOff x="900000" y="3502080"/>
            <a:chExt cx="1776240" cy="1758960"/>
          </a:xfrm>
        </p:grpSpPr>
        <p:sp>
          <p:nvSpPr>
            <p:cNvPr id="282" name=""/>
            <p:cNvSpPr/>
            <p:nvPr/>
          </p:nvSpPr>
          <p:spPr>
            <a:xfrm>
              <a:off x="900000" y="3502080"/>
              <a:ext cx="1776240" cy="1758960"/>
            </a:xfrm>
            <a:custGeom>
              <a:avLst/>
              <a:gdLst/>
              <a:ahLst/>
              <a:rect l="l" t="t" r="r" b="b"/>
              <a:pathLst>
                <a:path w="1119" h="1108">
                  <a:moveTo>
                    <a:pt x="880" y="350"/>
                  </a:moveTo>
                  <a:lnTo>
                    <a:pt x="895" y="397"/>
                  </a:lnTo>
                  <a:lnTo>
                    <a:pt x="905" y="449"/>
                  </a:lnTo>
                  <a:lnTo>
                    <a:pt x="910" y="501"/>
                  </a:lnTo>
                  <a:lnTo>
                    <a:pt x="912" y="553"/>
                  </a:lnTo>
                  <a:lnTo>
                    <a:pt x="910" y="611"/>
                  </a:lnTo>
                  <a:lnTo>
                    <a:pt x="902" y="668"/>
                  </a:lnTo>
                  <a:lnTo>
                    <a:pt x="892" y="720"/>
                  </a:lnTo>
                  <a:lnTo>
                    <a:pt x="878" y="767"/>
                  </a:lnTo>
                  <a:lnTo>
                    <a:pt x="858" y="820"/>
                  </a:lnTo>
                  <a:lnTo>
                    <a:pt x="835" y="861"/>
                  </a:lnTo>
                  <a:lnTo>
                    <a:pt x="808" y="908"/>
                  </a:lnTo>
                  <a:lnTo>
                    <a:pt x="778" y="945"/>
                  </a:lnTo>
                  <a:lnTo>
                    <a:pt x="746" y="982"/>
                  </a:lnTo>
                  <a:lnTo>
                    <a:pt x="712" y="1013"/>
                  </a:lnTo>
                  <a:lnTo>
                    <a:pt x="674" y="1039"/>
                  </a:lnTo>
                  <a:lnTo>
                    <a:pt x="635" y="1065"/>
                  </a:lnTo>
                  <a:lnTo>
                    <a:pt x="548" y="1097"/>
                  </a:lnTo>
                  <a:lnTo>
                    <a:pt x="503" y="1102"/>
                  </a:lnTo>
                  <a:lnTo>
                    <a:pt x="456" y="1107"/>
                  </a:lnTo>
                  <a:lnTo>
                    <a:pt x="409" y="1102"/>
                  </a:lnTo>
                  <a:lnTo>
                    <a:pt x="365" y="1097"/>
                  </a:lnTo>
                  <a:lnTo>
                    <a:pt x="280" y="1065"/>
                  </a:lnTo>
                  <a:lnTo>
                    <a:pt x="201" y="1013"/>
                  </a:lnTo>
                  <a:lnTo>
                    <a:pt x="166" y="982"/>
                  </a:lnTo>
                  <a:lnTo>
                    <a:pt x="134" y="945"/>
                  </a:lnTo>
                  <a:lnTo>
                    <a:pt x="104" y="908"/>
                  </a:lnTo>
                  <a:lnTo>
                    <a:pt x="80" y="861"/>
                  </a:lnTo>
                  <a:lnTo>
                    <a:pt x="55" y="820"/>
                  </a:lnTo>
                  <a:lnTo>
                    <a:pt x="37" y="767"/>
                  </a:lnTo>
                  <a:lnTo>
                    <a:pt x="20" y="720"/>
                  </a:lnTo>
                  <a:lnTo>
                    <a:pt x="10" y="668"/>
                  </a:lnTo>
                  <a:lnTo>
                    <a:pt x="3" y="611"/>
                  </a:lnTo>
                  <a:lnTo>
                    <a:pt x="0" y="553"/>
                  </a:lnTo>
                  <a:lnTo>
                    <a:pt x="3" y="496"/>
                  </a:lnTo>
                  <a:lnTo>
                    <a:pt x="10" y="444"/>
                  </a:lnTo>
                  <a:lnTo>
                    <a:pt x="20" y="391"/>
                  </a:lnTo>
                  <a:lnTo>
                    <a:pt x="37" y="339"/>
                  </a:lnTo>
                  <a:lnTo>
                    <a:pt x="55" y="292"/>
                  </a:lnTo>
                  <a:lnTo>
                    <a:pt x="80" y="245"/>
                  </a:lnTo>
                  <a:lnTo>
                    <a:pt x="104" y="203"/>
                  </a:lnTo>
                  <a:lnTo>
                    <a:pt x="134" y="161"/>
                  </a:lnTo>
                  <a:lnTo>
                    <a:pt x="166" y="125"/>
                  </a:lnTo>
                  <a:lnTo>
                    <a:pt x="201" y="94"/>
                  </a:lnTo>
                  <a:lnTo>
                    <a:pt x="280" y="41"/>
                  </a:lnTo>
                  <a:lnTo>
                    <a:pt x="322" y="26"/>
                  </a:lnTo>
                  <a:lnTo>
                    <a:pt x="365" y="10"/>
                  </a:lnTo>
                  <a:lnTo>
                    <a:pt x="409" y="5"/>
                  </a:lnTo>
                  <a:lnTo>
                    <a:pt x="456" y="0"/>
                  </a:lnTo>
                  <a:lnTo>
                    <a:pt x="503" y="5"/>
                  </a:lnTo>
                  <a:lnTo>
                    <a:pt x="548" y="10"/>
                  </a:lnTo>
                  <a:lnTo>
                    <a:pt x="593" y="26"/>
                  </a:lnTo>
                  <a:lnTo>
                    <a:pt x="635" y="47"/>
                  </a:lnTo>
                  <a:lnTo>
                    <a:pt x="716" y="99"/>
                  </a:lnTo>
                  <a:lnTo>
                    <a:pt x="751" y="135"/>
                  </a:lnTo>
                  <a:lnTo>
                    <a:pt x="786" y="172"/>
                  </a:lnTo>
                  <a:lnTo>
                    <a:pt x="1118" y="36"/>
                  </a:lnTo>
                  <a:lnTo>
                    <a:pt x="880" y="350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84040" y="3799080"/>
              <a:ext cx="8827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79400" y="1641600"/>
            <a:ext cx="174636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55520" y="365760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36600" y="53402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4784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534024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22520" y="3429000"/>
            <a:ext cx="1195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329000" y="53402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00400" y="2949120"/>
            <a:ext cx="2496600" cy="2391480"/>
            <a:chOff x="2300400" y="2949120"/>
            <a:chExt cx="2496600" cy="2391480"/>
          </a:xfrm>
        </p:grpSpPr>
        <p:sp>
          <p:nvSpPr>
            <p:cNvPr id="293" name=""/>
            <p:cNvSpPr/>
            <p:nvPr/>
          </p:nvSpPr>
          <p:spPr>
            <a:xfrm rot="21217200">
              <a:off x="2412720" y="3068280"/>
              <a:ext cx="2271600" cy="2152440"/>
            </a:xfrm>
            <a:custGeom>
              <a:avLst/>
              <a:gdLst/>
              <a:ahLst/>
              <a:rect l="l" t="t" r="r" b="b"/>
              <a:pathLst>
                <a:path w="1473" h="1300">
                  <a:moveTo>
                    <a:pt x="1197" y="647"/>
                  </a:moveTo>
                  <a:lnTo>
                    <a:pt x="1197" y="647"/>
                  </a:lnTo>
                  <a:lnTo>
                    <a:pt x="1197" y="652"/>
                  </a:lnTo>
                  <a:lnTo>
                    <a:pt x="1192" y="716"/>
                  </a:lnTo>
                  <a:lnTo>
                    <a:pt x="1183" y="785"/>
                  </a:lnTo>
                  <a:lnTo>
                    <a:pt x="1169" y="843"/>
                  </a:lnTo>
                  <a:lnTo>
                    <a:pt x="1151" y="901"/>
                  </a:lnTo>
                  <a:lnTo>
                    <a:pt x="1123" y="960"/>
                  </a:lnTo>
                  <a:lnTo>
                    <a:pt x="1096" y="1013"/>
                  </a:lnTo>
                  <a:lnTo>
                    <a:pt x="1023" y="1108"/>
                  </a:lnTo>
                  <a:lnTo>
                    <a:pt x="935" y="1188"/>
                  </a:lnTo>
                  <a:lnTo>
                    <a:pt x="885" y="1219"/>
                  </a:lnTo>
                  <a:lnTo>
                    <a:pt x="830" y="1246"/>
                  </a:lnTo>
                  <a:lnTo>
                    <a:pt x="775" y="1272"/>
                  </a:lnTo>
                  <a:lnTo>
                    <a:pt x="720" y="1288"/>
                  </a:lnTo>
                  <a:lnTo>
                    <a:pt x="660" y="1294"/>
                  </a:lnTo>
                  <a:lnTo>
                    <a:pt x="596" y="1299"/>
                  </a:lnTo>
                  <a:lnTo>
                    <a:pt x="537" y="1294"/>
                  </a:lnTo>
                  <a:lnTo>
                    <a:pt x="477" y="1288"/>
                  </a:lnTo>
                  <a:lnTo>
                    <a:pt x="417" y="1272"/>
                  </a:lnTo>
                  <a:lnTo>
                    <a:pt x="362" y="1246"/>
                  </a:lnTo>
                  <a:lnTo>
                    <a:pt x="312" y="1219"/>
                  </a:lnTo>
                  <a:lnTo>
                    <a:pt x="261" y="1188"/>
                  </a:lnTo>
                  <a:lnTo>
                    <a:pt x="174" y="1108"/>
                  </a:lnTo>
                  <a:lnTo>
                    <a:pt x="101" y="1013"/>
                  </a:lnTo>
                  <a:lnTo>
                    <a:pt x="73" y="960"/>
                  </a:lnTo>
                  <a:lnTo>
                    <a:pt x="46" y="901"/>
                  </a:lnTo>
                  <a:lnTo>
                    <a:pt x="28" y="843"/>
                  </a:lnTo>
                  <a:lnTo>
                    <a:pt x="14" y="785"/>
                  </a:lnTo>
                  <a:lnTo>
                    <a:pt x="5" y="716"/>
                  </a:lnTo>
                  <a:lnTo>
                    <a:pt x="0" y="652"/>
                  </a:lnTo>
                  <a:lnTo>
                    <a:pt x="5" y="583"/>
                  </a:lnTo>
                  <a:lnTo>
                    <a:pt x="14" y="520"/>
                  </a:lnTo>
                  <a:lnTo>
                    <a:pt x="28" y="456"/>
                  </a:lnTo>
                  <a:lnTo>
                    <a:pt x="46" y="398"/>
                  </a:lnTo>
                  <a:lnTo>
                    <a:pt x="73" y="340"/>
                  </a:lnTo>
                  <a:lnTo>
                    <a:pt x="101" y="287"/>
                  </a:lnTo>
                  <a:lnTo>
                    <a:pt x="174" y="191"/>
                  </a:lnTo>
                  <a:lnTo>
                    <a:pt x="261" y="112"/>
                  </a:lnTo>
                  <a:lnTo>
                    <a:pt x="312" y="80"/>
                  </a:lnTo>
                  <a:lnTo>
                    <a:pt x="362" y="53"/>
                  </a:lnTo>
                  <a:lnTo>
                    <a:pt x="417" y="32"/>
                  </a:lnTo>
                  <a:lnTo>
                    <a:pt x="477" y="16"/>
                  </a:lnTo>
                  <a:lnTo>
                    <a:pt x="537" y="6"/>
                  </a:lnTo>
                  <a:lnTo>
                    <a:pt x="596" y="0"/>
                  </a:lnTo>
                  <a:lnTo>
                    <a:pt x="688" y="6"/>
                  </a:lnTo>
                  <a:lnTo>
                    <a:pt x="770" y="27"/>
                  </a:lnTo>
                  <a:lnTo>
                    <a:pt x="853" y="64"/>
                  </a:lnTo>
                  <a:lnTo>
                    <a:pt x="931" y="112"/>
                  </a:lnTo>
                  <a:lnTo>
                    <a:pt x="1000" y="170"/>
                  </a:lnTo>
                  <a:lnTo>
                    <a:pt x="1059" y="239"/>
                  </a:lnTo>
                  <a:lnTo>
                    <a:pt x="1110" y="318"/>
                  </a:lnTo>
                  <a:lnTo>
                    <a:pt x="1151" y="403"/>
                  </a:lnTo>
                  <a:lnTo>
                    <a:pt x="1472" y="461"/>
                  </a:lnTo>
                  <a:lnTo>
                    <a:pt x="1197" y="647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21217200">
              <a:off x="2750040" y="3449880"/>
              <a:ext cx="11721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71520" y="364500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52600" y="53276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21040" y="532764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8520" y="3416400"/>
            <a:ext cx="119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6480" y="3505320"/>
            <a:ext cx="119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/3rd parti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m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840280" y="5340240"/>
            <a:ext cx="8305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033800" y="3432240"/>
            <a:ext cx="1957320" cy="1676160"/>
            <a:chOff x="4033800" y="3432240"/>
            <a:chExt cx="1957320" cy="1676160"/>
          </a:xfrm>
        </p:grpSpPr>
        <p:sp>
          <p:nvSpPr>
            <p:cNvPr id="306" name=""/>
            <p:cNvSpPr/>
            <p:nvPr/>
          </p:nvSpPr>
          <p:spPr>
            <a:xfrm>
              <a:off x="4033800" y="3432240"/>
              <a:ext cx="1957320" cy="1676160"/>
            </a:xfrm>
            <a:custGeom>
              <a:avLst/>
              <a:gdLst/>
              <a:ahLst/>
              <a:rect l="l" t="t" r="r" b="b"/>
              <a:pathLst>
                <a:path w="1233" h="1056">
                  <a:moveTo>
                    <a:pt x="906" y="628"/>
                  </a:moveTo>
                  <a:lnTo>
                    <a:pt x="882" y="715"/>
                  </a:lnTo>
                  <a:lnTo>
                    <a:pt x="852" y="798"/>
                  </a:lnTo>
                  <a:lnTo>
                    <a:pt x="803" y="870"/>
                  </a:lnTo>
                  <a:lnTo>
                    <a:pt x="749" y="937"/>
                  </a:lnTo>
                  <a:lnTo>
                    <a:pt x="683" y="983"/>
                  </a:lnTo>
                  <a:lnTo>
                    <a:pt x="616" y="1024"/>
                  </a:lnTo>
                  <a:lnTo>
                    <a:pt x="538" y="1045"/>
                  </a:lnTo>
                  <a:lnTo>
                    <a:pt x="459" y="1055"/>
                  </a:lnTo>
                  <a:lnTo>
                    <a:pt x="411" y="1055"/>
                  </a:lnTo>
                  <a:lnTo>
                    <a:pt x="369" y="1045"/>
                  </a:lnTo>
                  <a:lnTo>
                    <a:pt x="278" y="1014"/>
                  </a:lnTo>
                  <a:lnTo>
                    <a:pt x="206" y="962"/>
                  </a:lnTo>
                  <a:lnTo>
                    <a:pt x="133" y="901"/>
                  </a:lnTo>
                  <a:lnTo>
                    <a:pt x="79" y="823"/>
                  </a:lnTo>
                  <a:lnTo>
                    <a:pt x="37" y="731"/>
                  </a:lnTo>
                  <a:lnTo>
                    <a:pt x="13" y="633"/>
                  </a:lnTo>
                  <a:lnTo>
                    <a:pt x="0" y="525"/>
                  </a:lnTo>
                  <a:lnTo>
                    <a:pt x="13" y="417"/>
                  </a:lnTo>
                  <a:lnTo>
                    <a:pt x="37" y="319"/>
                  </a:lnTo>
                  <a:lnTo>
                    <a:pt x="79" y="231"/>
                  </a:lnTo>
                  <a:lnTo>
                    <a:pt x="133" y="154"/>
                  </a:lnTo>
                  <a:lnTo>
                    <a:pt x="206" y="87"/>
                  </a:lnTo>
                  <a:lnTo>
                    <a:pt x="278" y="41"/>
                  </a:lnTo>
                  <a:lnTo>
                    <a:pt x="369" y="10"/>
                  </a:lnTo>
                  <a:lnTo>
                    <a:pt x="411" y="5"/>
                  </a:lnTo>
                  <a:lnTo>
                    <a:pt x="459" y="0"/>
                  </a:lnTo>
                  <a:lnTo>
                    <a:pt x="538" y="10"/>
                  </a:lnTo>
                  <a:lnTo>
                    <a:pt x="616" y="31"/>
                  </a:lnTo>
                  <a:lnTo>
                    <a:pt x="683" y="72"/>
                  </a:lnTo>
                  <a:lnTo>
                    <a:pt x="749" y="123"/>
                  </a:lnTo>
                  <a:lnTo>
                    <a:pt x="803" y="185"/>
                  </a:lnTo>
                  <a:lnTo>
                    <a:pt x="852" y="257"/>
                  </a:lnTo>
                  <a:lnTo>
                    <a:pt x="882" y="340"/>
                  </a:lnTo>
                  <a:lnTo>
                    <a:pt x="906" y="427"/>
                  </a:lnTo>
                  <a:lnTo>
                    <a:pt x="1232" y="530"/>
                  </a:lnTo>
                  <a:lnTo>
                    <a:pt x="906" y="628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1080" y="3711600"/>
              <a:ext cx="88272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329000" y="53402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71520" y="364500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52600" y="53276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1040" y="532764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38520" y="3416400"/>
            <a:ext cx="119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6480" y="3505320"/>
            <a:ext cx="119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/3rd parties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m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57760" y="371484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C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B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ild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  "</a:t>
            </a: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243920" y="3733920"/>
            <a:ext cx="1196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be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21680" y="5340240"/>
            <a:ext cx="10429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580000" y="3429000"/>
            <a:ext cx="1944360" cy="1682640"/>
            <a:chOff x="5580000" y="3429000"/>
            <a:chExt cx="1944360" cy="1682640"/>
          </a:xfrm>
        </p:grpSpPr>
        <p:sp>
          <p:nvSpPr>
            <p:cNvPr id="323" name=""/>
            <p:cNvSpPr/>
            <p:nvPr/>
          </p:nvSpPr>
          <p:spPr>
            <a:xfrm>
              <a:off x="5580000" y="3429000"/>
              <a:ext cx="1944360" cy="1682640"/>
            </a:xfrm>
            <a:custGeom>
              <a:avLst/>
              <a:gdLst/>
              <a:ahLst/>
              <a:rect l="l" t="t" r="r" b="b"/>
              <a:pathLst>
                <a:path w="1176" h="1060">
                  <a:moveTo>
                    <a:pt x="861" y="450"/>
                  </a:moveTo>
                  <a:lnTo>
                    <a:pt x="868" y="490"/>
                  </a:lnTo>
                  <a:lnTo>
                    <a:pt x="868" y="530"/>
                  </a:lnTo>
                  <a:lnTo>
                    <a:pt x="861" y="640"/>
                  </a:lnTo>
                  <a:lnTo>
                    <a:pt x="831" y="734"/>
                  </a:lnTo>
                  <a:lnTo>
                    <a:pt x="793" y="824"/>
                  </a:lnTo>
                  <a:lnTo>
                    <a:pt x="741" y="904"/>
                  </a:lnTo>
                  <a:lnTo>
                    <a:pt x="674" y="969"/>
                  </a:lnTo>
                  <a:lnTo>
                    <a:pt x="606" y="1019"/>
                  </a:lnTo>
                  <a:lnTo>
                    <a:pt x="524" y="1049"/>
                  </a:lnTo>
                  <a:lnTo>
                    <a:pt x="479" y="1054"/>
                  </a:lnTo>
                  <a:lnTo>
                    <a:pt x="434" y="1059"/>
                  </a:lnTo>
                  <a:lnTo>
                    <a:pt x="389" y="1054"/>
                  </a:lnTo>
                  <a:lnTo>
                    <a:pt x="345" y="1049"/>
                  </a:lnTo>
                  <a:lnTo>
                    <a:pt x="262" y="1019"/>
                  </a:lnTo>
                  <a:lnTo>
                    <a:pt x="195" y="969"/>
                  </a:lnTo>
                  <a:lnTo>
                    <a:pt x="128" y="904"/>
                  </a:lnTo>
                  <a:lnTo>
                    <a:pt x="75" y="824"/>
                  </a:lnTo>
                  <a:lnTo>
                    <a:pt x="38" y="734"/>
                  </a:lnTo>
                  <a:lnTo>
                    <a:pt x="8" y="640"/>
                  </a:lnTo>
                  <a:lnTo>
                    <a:pt x="0" y="530"/>
                  </a:lnTo>
                  <a:lnTo>
                    <a:pt x="8" y="425"/>
                  </a:lnTo>
                  <a:lnTo>
                    <a:pt x="38" y="325"/>
                  </a:lnTo>
                  <a:lnTo>
                    <a:pt x="75" y="235"/>
                  </a:lnTo>
                  <a:lnTo>
                    <a:pt x="128" y="155"/>
                  </a:lnTo>
                  <a:lnTo>
                    <a:pt x="195" y="90"/>
                  </a:lnTo>
                  <a:lnTo>
                    <a:pt x="262" y="40"/>
                  </a:lnTo>
                  <a:lnTo>
                    <a:pt x="307" y="25"/>
                  </a:lnTo>
                  <a:lnTo>
                    <a:pt x="345" y="10"/>
                  </a:lnTo>
                  <a:lnTo>
                    <a:pt x="389" y="5"/>
                  </a:lnTo>
                  <a:lnTo>
                    <a:pt x="434" y="0"/>
                  </a:lnTo>
                  <a:lnTo>
                    <a:pt x="487" y="5"/>
                  </a:lnTo>
                  <a:lnTo>
                    <a:pt x="547" y="20"/>
                  </a:lnTo>
                  <a:lnTo>
                    <a:pt x="599" y="40"/>
                  </a:lnTo>
                  <a:lnTo>
                    <a:pt x="644" y="70"/>
                  </a:lnTo>
                  <a:lnTo>
                    <a:pt x="696" y="110"/>
                  </a:lnTo>
                  <a:lnTo>
                    <a:pt x="734" y="150"/>
                  </a:lnTo>
                  <a:lnTo>
                    <a:pt x="778" y="205"/>
                  </a:lnTo>
                  <a:lnTo>
                    <a:pt x="808" y="260"/>
                  </a:lnTo>
                  <a:lnTo>
                    <a:pt x="1175" y="200"/>
                  </a:lnTo>
                  <a:lnTo>
                    <a:pt x="861" y="450"/>
                  </a:lnTo>
                </a:path>
              </a:pathLst>
            </a:custGeom>
            <a:solidFill>
              <a:srgbClr val="666699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67640" y="3714840"/>
              <a:ext cx="86292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840280" y="5340240"/>
            <a:ext cx="8305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29000" y="53402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71520" y="364500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52600" y="532764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21040" y="532764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38520" y="3416400"/>
            <a:ext cx="1195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6480" y="3505320"/>
            <a:ext cx="119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/3rd parti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57760" y="371484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 "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703440" y="3695760"/>
            <a:ext cx="119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27440" y="369576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05240" y="3695760"/>
            <a:ext cx="119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82840" y="5765760"/>
            <a:ext cx="128520" cy="1396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19520" y="5530680"/>
            <a:ext cx="339480" cy="36864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5308560"/>
            <a:ext cx="592200" cy="5968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61080" y="4851360"/>
            <a:ext cx="1054080" cy="10540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0" y="4013280"/>
            <a:ext cx="1857240" cy="189216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3740040"/>
            <a:ext cx="3189240" cy="67320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jects / Deals size (M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91160" y="4815000"/>
            <a:ext cx="63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43600" y="519588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43400" y="5410080"/>
            <a:ext cx="51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98640" y="553896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672320" y="5416560"/>
            <a:ext cx="339840" cy="3682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32440" y="5111640"/>
            <a:ext cx="727200" cy="67320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3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32240" y="4959360"/>
            <a:ext cx="831960" cy="8254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73280" y="4502160"/>
            <a:ext cx="1295280" cy="128268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4400" y="3892680"/>
            <a:ext cx="1846440" cy="189216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3657600"/>
            <a:ext cx="5791320" cy="67320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hare of prime contractor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ject /deal  valu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773280" y="1447920"/>
            <a:ext cx="780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84320" y="6095880"/>
            <a:ext cx="6168960" cy="0"/>
          </a:xfrm>
          <a:prstGeom prst="line">
            <a:avLst/>
          </a:prstGeom>
          <a:ln w="25560">
            <a:solidFill>
              <a:srgbClr val="1d13eb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7120" y="5791320"/>
            <a:ext cx="6245280" cy="0"/>
          </a:xfrm>
          <a:prstGeom prst="line">
            <a:avLst/>
          </a:prstGeom>
          <a:ln w="25560">
            <a:solidFill>
              <a:srgbClr val="1d13eb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41320" y="5029200"/>
            <a:ext cx="4926240" cy="0"/>
          </a:xfrm>
          <a:prstGeom prst="line">
            <a:avLst/>
          </a:prstGeom>
          <a:ln w="25560">
            <a:solidFill>
              <a:srgbClr val="0000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4724280"/>
            <a:ext cx="18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cc"/>
                </a:solidFill>
                <a:latin typeface="Geneva"/>
              </a:rPr>
              <a:t>Cap Gemini…………. Bossard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95640" y="5589720"/>
            <a:ext cx="1900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d13eb"/>
                </a:solidFill>
                <a:latin typeface="Geneva"/>
              </a:rPr>
              <a:t>Andersen Consulting …. Accen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2400" y="5867280"/>
            <a:ext cx="56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3eb"/>
                </a:solidFill>
                <a:latin typeface="Geneva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70440" y="5029200"/>
            <a:ext cx="1392480" cy="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40360" y="46530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Geneva"/>
              </a:rPr>
              <a:t>	</a:t>
            </a:r>
            <a:r>
              <a:rPr b="1" lang="en-US" sz="1800" spc="-1" strike="noStrike">
                <a:solidFill>
                  <a:srgbClr val="0000cc"/>
                </a:solidFill>
                <a:latin typeface="Geneva"/>
              </a:rPr>
              <a:t>Ernst &amp; Yo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ntegration : Competi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2136600" y="5410080"/>
            <a:ext cx="5940720" cy="0"/>
          </a:xfrm>
          <a:prstGeom prst="line">
            <a:avLst/>
          </a:prstGeom>
          <a:ln w="25560">
            <a:solidFill>
              <a:srgbClr val="1d13eb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0920" y="5013360"/>
            <a:ext cx="481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d13eb"/>
                </a:solidFill>
                <a:latin typeface="Geneva"/>
              </a:rPr>
              <a:t> </a:t>
            </a:r>
            <a:r>
              <a:rPr b="1" lang="fr-FR" sz="1800" spc="-1" strike="noStrike">
                <a:solidFill>
                  <a:srgbClr val="1d13eb"/>
                </a:solidFill>
                <a:latin typeface="Geneva"/>
              </a:rPr>
              <a:t>EDS + AT Kea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mpetitive fight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779400" y="4005360"/>
            <a:ext cx="2098800" cy="2050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57400" y="4343400"/>
            <a:ext cx="13428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/ P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Lances / Tem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sell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Commodity»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382920" y="4545000"/>
            <a:ext cx="2378160" cy="1511280"/>
            <a:chOff x="3382920" y="4545000"/>
            <a:chExt cx="2378160" cy="1511280"/>
          </a:xfrm>
        </p:grpSpPr>
        <p:sp>
          <p:nvSpPr>
            <p:cNvPr id="390" name=""/>
            <p:cNvSpPr/>
            <p:nvPr/>
          </p:nvSpPr>
          <p:spPr>
            <a:xfrm>
              <a:off x="3382920" y="4545000"/>
              <a:ext cx="2378160" cy="1511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12480" y="4896000"/>
              <a:ext cx="1353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fficulties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e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126120" y="4157640"/>
            <a:ext cx="237816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45160" y="4475160"/>
            <a:ext cx="1540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d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5400" y="162864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63840" y="16318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71800" y="164448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84880" y="1644480"/>
            <a:ext cx="17445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69240" y="1644480"/>
            <a:ext cx="174600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« SSII » : a short story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436760" y="5543640"/>
            <a:ext cx="831600" cy="64764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919191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ain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49480" y="5543640"/>
            <a:ext cx="830520" cy="64764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919191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40160" y="5543640"/>
            <a:ext cx="831960" cy="64764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919191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51440" y="5543640"/>
            <a:ext cx="831960" cy="64764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50000">
                <a:srgbClr val="919191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32840" y="5543640"/>
            <a:ext cx="1042920" cy="647640"/>
          </a:xfrm>
          <a:prstGeom prst="rect">
            <a:avLst/>
          </a:prstGeom>
          <a:gradFill rotWithShape="0">
            <a:gsLst>
              <a:gs pos="0">
                <a:srgbClr val="5f58f0"/>
              </a:gs>
              <a:gs pos="100000">
                <a:srgbClr val="1d13e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43920" y="3230640"/>
            <a:ext cx="1196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be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21680" y="4836960"/>
            <a:ext cx="10429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40280" y="4836960"/>
            <a:ext cx="83052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29000" y="483696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5400" y="112536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71520" y="3141720"/>
            <a:ext cx="119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rly Rat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2600" y="4824360"/>
            <a:ext cx="8319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63840" y="1128600"/>
            <a:ext cx="1746360" cy="189252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21040" y="4824360"/>
            <a:ext cx="830160" cy="825480"/>
          </a:xfrm>
          <a:prstGeom prst="rect">
            <a:avLst/>
          </a:prstGeom>
          <a:gradFill rotWithShape="0">
            <a:gsLst>
              <a:gs pos="0">
                <a:srgbClr val="c7c7c7"/>
              </a:gs>
              <a:gs pos="50000">
                <a:srgbClr val="919191"/>
              </a:gs>
              <a:gs pos="100000">
                <a:srgbClr val="c7c7c7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2913120"/>
            <a:ext cx="1195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ote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pecs, Price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71800" y="1141560"/>
            <a:ext cx="174636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46480" y="3002040"/>
            <a:ext cx="1195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/3rd parti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n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84880" y="1141560"/>
            <a:ext cx="174456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57760" y="3211560"/>
            <a:ext cx="119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i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 "</a:t>
            </a: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69240" y="1141560"/>
            <a:ext cx="1746000" cy="1892160"/>
          </a:xfrm>
          <a:prstGeom prst="rightArrow">
            <a:avLst>
              <a:gd name="adj1" fmla="val 50000"/>
              <a:gd name="adj2" fmla="val 315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2060640"/>
            <a:ext cx="2514600" cy="3429000"/>
          </a:xfrm>
          <a:prstGeom prst="irregularSeal2">
            <a:avLst/>
          </a:prstGeom>
          <a:solidFill>
            <a:srgbClr val="919191">
              <a:alpha val="50000"/>
            </a:srgbClr>
          </a:solidFill>
          <a:ln w="1908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ne way of describing a cycl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trategies’ convergenc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086360" y="4352760"/>
            <a:ext cx="1182600" cy="1206720"/>
          </a:xfrm>
          <a:prstGeom prst="ellipse">
            <a:avLst/>
          </a:prstGeom>
          <a:gradFill rotWithShape="0">
            <a:gsLst>
              <a:gs pos="0">
                <a:srgbClr val="919191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10200" y="1425600"/>
            <a:ext cx="971280" cy="3225600"/>
          </a:xfrm>
          <a:prstGeom prst="downArrow">
            <a:avLst>
              <a:gd name="adj1" fmla="val 50000"/>
              <a:gd name="adj2" fmla="val 166095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4352760"/>
            <a:ext cx="3294000" cy="1054440"/>
          </a:xfrm>
          <a:prstGeom prst="leftArrow">
            <a:avLst>
              <a:gd name="adj1" fmla="val 50000"/>
              <a:gd name="adj2" fmla="val 156153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87640" y="1413000"/>
            <a:ext cx="112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0880" y="1413000"/>
            <a:ext cx="161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5641920"/>
            <a:ext cx="556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group builds on its own components,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eam to move towards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74880" y="4352760"/>
            <a:ext cx="3292200" cy="1054440"/>
          </a:xfrm>
          <a:prstGeom prst="rightArrow">
            <a:avLst>
              <a:gd name="adj1" fmla="val 50000"/>
              <a:gd name="adj2" fmla="val 15615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S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44560" y="3355920"/>
            <a:ext cx="112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p Gemini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entur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24360" y="1984320"/>
            <a:ext cx="119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45280" y="1984320"/>
            <a:ext cx="2111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rst Data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04240" y="3736800"/>
            <a:ext cx="147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33520" y="1371600"/>
            <a:ext cx="2112840" cy="1892160"/>
          </a:xfrm>
          <a:prstGeom prst="rightArrow">
            <a:avLst>
              <a:gd name="adj1" fmla="val 50000"/>
              <a:gd name="adj2" fmla="val 352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68560" y="1371600"/>
            <a:ext cx="2112840" cy="1892160"/>
          </a:xfrm>
          <a:prstGeom prst="rightArrow">
            <a:avLst>
              <a:gd name="adj1" fmla="val 50000"/>
              <a:gd name="adj2" fmla="val 352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30760" y="1371600"/>
            <a:ext cx="2112840" cy="1892160"/>
          </a:xfrm>
          <a:prstGeom prst="rightArrow">
            <a:avLst>
              <a:gd name="adj1" fmla="val 50000"/>
              <a:gd name="adj2" fmla="val 352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194440"/>
            <a:ext cx="831960" cy="825480"/>
          </a:xfrm>
          <a:prstGeom prst="rect">
            <a:avLst/>
          </a:prstGeom>
          <a:solidFill>
            <a:srgbClr val="1d13eb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32400" y="1371600"/>
            <a:ext cx="2111400" cy="1892160"/>
          </a:xfrm>
          <a:prstGeom prst="rightArrow">
            <a:avLst>
              <a:gd name="adj1" fmla="val 50000"/>
              <a:gd name="adj2" fmla="val 35222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5187960"/>
            <a:ext cx="830160" cy="825480"/>
          </a:xfrm>
          <a:prstGeom prst="rect">
            <a:avLst/>
          </a:prstGeom>
          <a:solidFill>
            <a:srgbClr val="1d13eb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29000" y="5187960"/>
            <a:ext cx="831960" cy="825480"/>
          </a:xfrm>
          <a:prstGeom prst="rect">
            <a:avLst/>
          </a:prstGeom>
          <a:solidFill>
            <a:srgbClr val="1d13eb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40280" y="5187960"/>
            <a:ext cx="831960" cy="825480"/>
          </a:xfrm>
          <a:prstGeom prst="rect">
            <a:avLst/>
          </a:prstGeom>
          <a:solidFill>
            <a:srgbClr val="1d13eb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91520" y="5187960"/>
            <a:ext cx="1042920" cy="825480"/>
          </a:xfrm>
          <a:prstGeom prst="rect">
            <a:avLst/>
          </a:prstGeom>
          <a:solidFill>
            <a:srgbClr val="1d13eb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31160" y="1371600"/>
            <a:ext cx="2112840" cy="1892160"/>
          </a:xfrm>
          <a:prstGeom prst="rightArrow">
            <a:avLst>
              <a:gd name="adj1" fmla="val 50000"/>
              <a:gd name="adj2" fmla="val 35246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Business Integration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1735560" y="3716280"/>
            <a:ext cx="438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Tahoma"/>
              </a:rPr>
              <a:t>In the « digital World »</a:t>
            </a:r>
            <a:br>
              <a:rPr sz="2400"/>
            </a:br>
            <a:r>
              <a:rPr b="0" lang="fr-FR" sz="2400" spc="-1" strike="noStrike">
                <a:solidFill>
                  <a:srgbClr val="618ffd"/>
                </a:solidFill>
                <a:latin typeface="Tahoma"/>
              </a:rPr>
              <a:t>If we stop, our clients stop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0481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Tahoma"/>
              </a:rPr>
              <a:t>Services Share </a:t>
            </a:r>
            <a:br>
              <a:rPr sz="2000"/>
            </a:br>
            <a:r>
              <a:rPr b="0" lang="fr-FR" sz="2000" spc="-1" strike="noStrike">
                <a:solidFill>
                  <a:srgbClr val="33ccff"/>
                </a:solidFill>
                <a:latin typeface="Tahoma"/>
              </a:rPr>
              <a:t>(CBR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65/7/24</a:t>
            </a:r>
            <a:br>
              <a:rPr sz="2000"/>
            </a:br>
            <a:r>
              <a:rPr b="0" lang="fr-FR" sz="2000" spc="-1" strike="noStrike">
                <a:solidFill>
                  <a:srgbClr val="00ff00"/>
                </a:solidFill>
                <a:latin typeface="Tahoma"/>
              </a:rPr>
              <a:t>Sharing risks</a:t>
            </a:r>
            <a:br>
              <a:rPr sz="2000"/>
            </a:br>
            <a:r>
              <a:rPr b="0" lang="fr-FR" sz="2000" spc="-1" strike="noStrike">
                <a:solidFill>
                  <a:srgbClr val="00ff00"/>
                </a:solidFill>
                <a:latin typeface="Tahoma"/>
              </a:rPr>
              <a:t>&amp; g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SSII in the 2000’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47920" y="1267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siness Integration 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1° What is our (monthly, quarterly...) share of each customer expenditure in C+B+R ? How do we get maximum coverag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° Which strategic functions or information are  outsourced to us  by each custom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3° How do we control (defend) and expand our services share for each custom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° How do we manage not to be substituted in our core offering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5° Offering every possible service, not producing all of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6° What is our position in each customer’s Galaxy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19112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68360" y="115920"/>
            <a:ext cx="66963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 B R Services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889280" y="5413320"/>
            <a:ext cx="6416640" cy="352440"/>
          </a:xfrm>
          <a:prstGeom prst="cube">
            <a:avLst>
              <a:gd name="adj" fmla="val 1246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-Management , Entreprise infra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89280" y="5033880"/>
            <a:ext cx="6416640" cy="319320"/>
          </a:xfrm>
          <a:prstGeom prst="cube">
            <a:avLst>
              <a:gd name="adj" fmla="val 11060"/>
            </a:avLst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prise Application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2819520"/>
            <a:ext cx="69048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19640" y="2840040"/>
            <a:ext cx="72864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1938240"/>
            <a:ext cx="1535400" cy="804960"/>
          </a:xfrm>
          <a:prstGeom prst="cube">
            <a:avLst>
              <a:gd name="adj" fmla="val 1056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5106960" y="3663720"/>
            <a:ext cx="1773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8136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17920" y="2819520"/>
            <a:ext cx="75708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669400" y="3493080"/>
            <a:ext cx="207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reak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M&amp;A, Spin Off, 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3462840" y="3775680"/>
            <a:ext cx="2127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w Modul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New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52880" y="2819520"/>
            <a:ext cx="709560" cy="213336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271040" y="3553560"/>
            <a:ext cx="198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2840040"/>
            <a:ext cx="68076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5753520" y="3594960"/>
            <a:ext cx="207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sers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40680" y="2840040"/>
            <a:ext cx="760320" cy="2133720"/>
          </a:xfrm>
          <a:prstGeom prst="cube">
            <a:avLst>
              <a:gd name="adj" fmla="val 10560"/>
            </a:avLst>
          </a:prstGeom>
          <a:gradFill rotWithShape="0">
            <a:gsLst>
              <a:gs pos="0">
                <a:srgbClr val="a2d0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527520" y="3546360"/>
            <a:ext cx="1973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08000" y="5877000"/>
            <a:ext cx="6417000" cy="285840"/>
          </a:xfrm>
          <a:prstGeom prst="cube">
            <a:avLst>
              <a:gd name="adj" fmla="val 1246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ser Support (Call Center / level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89280" y="1941480"/>
            <a:ext cx="6492600" cy="388800"/>
          </a:xfrm>
          <a:prstGeom prst="cube">
            <a:avLst>
              <a:gd name="adj" fmla="val 1106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erprise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89280" y="2362320"/>
            <a:ext cx="6492600" cy="414360"/>
          </a:xfrm>
          <a:prstGeom prst="cube">
            <a:avLst>
              <a:gd name="adj" fmla="val 1106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terprise Program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1989360" y="3791880"/>
            <a:ext cx="194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ll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1326240" y="3804480"/>
            <a:ext cx="19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rst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280" y="2819520"/>
            <a:ext cx="1535400" cy="2133360"/>
          </a:xfrm>
          <a:prstGeom prst="cube">
            <a:avLst>
              <a:gd name="adj" fmla="val 10560"/>
            </a:avLst>
          </a:prstGeom>
          <a:solidFill>
            <a:srgbClr val="1d13e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j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2280" y="5033880"/>
            <a:ext cx="1535400" cy="1067040"/>
          </a:xfrm>
          <a:prstGeom prst="cube">
            <a:avLst>
              <a:gd name="adj" fmla="val 1056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78840" y="3962520"/>
            <a:ext cx="6840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9960" y="3962520"/>
            <a:ext cx="6696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58200" y="3962520"/>
            <a:ext cx="6516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HR and Critical facto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3481200" cy="482472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sourc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's  Program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's  AP Cob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's Gradu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's Consulta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’s «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33960" y="1268280"/>
            <a:ext cx="4010040" cy="472464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egic skills &amp; know how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ing, ret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, alliances (VAR…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ology,  global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M,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219560" y="2362320"/>
            <a:ext cx="995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19560" y="3048120"/>
            <a:ext cx="995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06960" y="3686040"/>
            <a:ext cx="995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19560" y="4361040"/>
            <a:ext cx="995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19560" y="5257800"/>
            <a:ext cx="995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storical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Tahoma"/>
              </a:rPr>
              <a:t>«business models»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04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T services breakdown by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Business Model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62120" y="2371680"/>
            <a:ext cx="7238880" cy="437400"/>
            <a:chOff x="762120" y="2371680"/>
            <a:chExt cx="7238880" cy="437400"/>
          </a:xfrm>
        </p:grpSpPr>
        <p:sp>
          <p:nvSpPr>
            <p:cNvPr id="489" name=""/>
            <p:cNvSpPr/>
            <p:nvPr/>
          </p:nvSpPr>
          <p:spPr>
            <a:xfrm>
              <a:off x="762120" y="2371680"/>
              <a:ext cx="10350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16080" y="2400480"/>
              <a:ext cx="49849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A leader’s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62120" y="2867040"/>
            <a:ext cx="6629400" cy="437040"/>
            <a:chOff x="762120" y="2867040"/>
            <a:chExt cx="6629400" cy="437040"/>
          </a:xfrm>
        </p:grpSpPr>
        <p:sp>
          <p:nvSpPr>
            <p:cNvPr id="492" name=""/>
            <p:cNvSpPr/>
            <p:nvPr/>
          </p:nvSpPr>
          <p:spPr>
            <a:xfrm>
              <a:off x="762120" y="2867040"/>
              <a:ext cx="8413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16080" y="2895480"/>
              <a:ext cx="43754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Main basic business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58880" y="3429000"/>
            <a:ext cx="7165800" cy="408600"/>
            <a:chOff x="758880" y="3429000"/>
            <a:chExt cx="7165800" cy="408600"/>
          </a:xfrm>
        </p:grpSpPr>
        <p:sp>
          <p:nvSpPr>
            <p:cNvPr id="495" name=""/>
            <p:cNvSpPr/>
            <p:nvPr/>
          </p:nvSpPr>
          <p:spPr>
            <a:xfrm>
              <a:off x="758880" y="3429000"/>
              <a:ext cx="19080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f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16080" y="3429000"/>
              <a:ext cx="49086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Key success or failure fac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55640" y="3933720"/>
            <a:ext cx="6477120" cy="437400"/>
            <a:chOff x="755640" y="3933720"/>
            <a:chExt cx="6477120" cy="437400"/>
          </a:xfrm>
        </p:grpSpPr>
        <p:sp>
          <p:nvSpPr>
            <p:cNvPr id="498" name=""/>
            <p:cNvSpPr/>
            <p:nvPr/>
          </p:nvSpPr>
          <p:spPr>
            <a:xfrm>
              <a:off x="755640" y="3933720"/>
              <a:ext cx="18716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09960" y="3962520"/>
              <a:ext cx="42228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Key internal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62120" y="5000760"/>
            <a:ext cx="7848360" cy="437040"/>
            <a:chOff x="762120" y="5000760"/>
            <a:chExt cx="7848360" cy="437040"/>
          </a:xfrm>
        </p:grpSpPr>
        <p:sp>
          <p:nvSpPr>
            <p:cNvPr id="501" name=""/>
            <p:cNvSpPr/>
            <p:nvPr/>
          </p:nvSpPr>
          <p:spPr>
            <a:xfrm>
              <a:off x="762120" y="5000760"/>
              <a:ext cx="10602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16080" y="5029200"/>
              <a:ext cx="55944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Most commonly applied strateg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55640" y="5516640"/>
            <a:ext cx="9640800" cy="437040"/>
            <a:chOff x="755640" y="5516640"/>
            <a:chExt cx="9640800" cy="437040"/>
          </a:xfrm>
        </p:grpSpPr>
        <p:sp>
          <p:nvSpPr>
            <p:cNvPr id="504" name=""/>
            <p:cNvSpPr/>
            <p:nvPr/>
          </p:nvSpPr>
          <p:spPr>
            <a:xfrm>
              <a:off x="755640" y="5516640"/>
              <a:ext cx="187164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v/head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09960" y="5545080"/>
              <a:ext cx="738648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Yearly revenues by employ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2120" y="4467240"/>
            <a:ext cx="6508800" cy="437040"/>
            <a:chOff x="762120" y="4467240"/>
            <a:chExt cx="6508800" cy="437040"/>
          </a:xfrm>
        </p:grpSpPr>
        <p:sp>
          <p:nvSpPr>
            <p:cNvPr id="507" name=""/>
            <p:cNvSpPr/>
            <p:nvPr/>
          </p:nvSpPr>
          <p:spPr>
            <a:xfrm>
              <a:off x="762120" y="4467240"/>
              <a:ext cx="132696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ograp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8120" y="4495680"/>
              <a:ext cx="42228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Arial"/>
                </a:rPr>
                <a:t>Covera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8200" y="-360"/>
            <a:ext cx="7116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BM N° 1 : Outsourcing (FM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758880" y="2371680"/>
            <a:ext cx="10350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68720" y="2400480"/>
            <a:ext cx="4984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8880" y="2914560"/>
            <a:ext cx="841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168720" y="2943360"/>
            <a:ext cx="43750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63de8"/>
                </a:solidFill>
                <a:latin typeface="Arial"/>
              </a:rPr>
              <a:t>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5640" y="3465360"/>
            <a:ext cx="1832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68720" y="3484440"/>
            <a:ext cx="5780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63de8"/>
                </a:solidFill>
                <a:latin typeface="Arial"/>
              </a:rPr>
              <a:t>RFQ, Proposal, T&amp;Cs and T0 purchases for each d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4005360"/>
            <a:ext cx="208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8720" y="3990960"/>
            <a:ext cx="42228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63de8"/>
                </a:solidFill>
                <a:latin typeface="Arial"/>
              </a:rPr>
              <a:t>MIPS fa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8880" y="5000760"/>
            <a:ext cx="1060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68720" y="5029200"/>
            <a:ext cx="559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63de8"/>
                </a:solidFill>
                <a:latin typeface="Arial"/>
              </a:rPr>
              <a:t>Economies of scale, re-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8880" y="5533920"/>
            <a:ext cx="19414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/h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68720" y="5562720"/>
            <a:ext cx="51372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gt; 150 K 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8880" y="4467240"/>
            <a:ext cx="13269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68720" y="4495680"/>
            <a:ext cx="42228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016080" y="2400480"/>
            <a:ext cx="49849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ATOS - 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16080" y="2895480"/>
            <a:ext cx="43754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16080" y="3429000"/>
            <a:ext cx="5540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raffic generation or co-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16080" y="3990960"/>
            <a:ext cx="5659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Networks and toll establishment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16080" y="5029200"/>
            <a:ext cx="559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pe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016080" y="5562720"/>
            <a:ext cx="51372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120 – 150 K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8120" y="4495680"/>
            <a:ext cx="42228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gional or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BM N° 2 : On line (demand) servic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758880" y="2371680"/>
            <a:ext cx="10350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8880" y="2914560"/>
            <a:ext cx="841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5640" y="3465360"/>
            <a:ext cx="1832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640" y="4005360"/>
            <a:ext cx="208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8880" y="5000760"/>
            <a:ext cx="1060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8880" y="5533920"/>
            <a:ext cx="19414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/h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8880" y="4467240"/>
            <a:ext cx="13269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5640" y="357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+6 à +8%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496360" y="46674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+1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96360" y="443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+3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880" y="1863720"/>
            <a:ext cx="1440" cy="427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6140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200" y="5524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200" y="4924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200" y="43084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00" y="36939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200" y="3079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200" y="24782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18637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880" y="4924440"/>
            <a:ext cx="8001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3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476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59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842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3083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338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1449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686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99420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197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290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25456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680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038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5152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9404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45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900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2011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624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4352760"/>
            <a:ext cx="7591320" cy="673200"/>
          </a:xfrm>
          <a:custGeom>
            <a:avLst/>
            <a:gdLst/>
            <a:ahLst/>
            <a:rect l="l" t="t" r="r" b="b"/>
            <a:pathLst>
              <a:path w="518" h="46">
                <a:moveTo>
                  <a:pt x="0" y="0"/>
                </a:moveTo>
                <a:lnTo>
                  <a:pt x="29" y="4"/>
                </a:lnTo>
                <a:lnTo>
                  <a:pt x="58" y="17"/>
                </a:lnTo>
                <a:lnTo>
                  <a:pt x="87" y="30"/>
                </a:lnTo>
                <a:lnTo>
                  <a:pt x="115" y="26"/>
                </a:lnTo>
                <a:lnTo>
                  <a:pt x="144" y="46"/>
                </a:lnTo>
                <a:lnTo>
                  <a:pt x="173" y="21"/>
                </a:lnTo>
                <a:lnTo>
                  <a:pt x="202" y="24"/>
                </a:lnTo>
                <a:lnTo>
                  <a:pt x="230" y="29"/>
                </a:lnTo>
                <a:lnTo>
                  <a:pt x="259" y="23"/>
                </a:lnTo>
                <a:lnTo>
                  <a:pt x="288" y="10"/>
                </a:lnTo>
                <a:lnTo>
                  <a:pt x="316" y="12"/>
                </a:lnTo>
                <a:lnTo>
                  <a:pt x="345" y="7"/>
                </a:lnTo>
                <a:lnTo>
                  <a:pt x="374" y="21"/>
                </a:lnTo>
                <a:lnTo>
                  <a:pt x="403" y="29"/>
                </a:lnTo>
                <a:lnTo>
                  <a:pt x="431" y="34"/>
                </a:lnTo>
                <a:lnTo>
                  <a:pt x="460" y="18"/>
                </a:lnTo>
                <a:lnTo>
                  <a:pt x="489" y="27"/>
                </a:lnTo>
                <a:lnTo>
                  <a:pt x="518" y="24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2478240"/>
            <a:ext cx="7591320" cy="2813040"/>
          </a:xfrm>
          <a:custGeom>
            <a:avLst/>
            <a:gdLst/>
            <a:ahLst/>
            <a:rect l="l" t="t" r="r" b="b"/>
            <a:pathLst>
              <a:path w="518" h="192">
                <a:moveTo>
                  <a:pt x="0" y="33"/>
                </a:moveTo>
                <a:lnTo>
                  <a:pt x="29" y="25"/>
                </a:lnTo>
                <a:lnTo>
                  <a:pt x="58" y="41"/>
                </a:lnTo>
                <a:lnTo>
                  <a:pt x="87" y="125"/>
                </a:lnTo>
                <a:lnTo>
                  <a:pt x="115" y="137"/>
                </a:lnTo>
                <a:lnTo>
                  <a:pt x="144" y="187"/>
                </a:lnTo>
                <a:lnTo>
                  <a:pt x="173" y="137"/>
                </a:lnTo>
                <a:lnTo>
                  <a:pt x="202" y="125"/>
                </a:lnTo>
                <a:lnTo>
                  <a:pt x="230" y="117"/>
                </a:lnTo>
                <a:lnTo>
                  <a:pt x="259" y="50"/>
                </a:lnTo>
                <a:lnTo>
                  <a:pt x="288" y="0"/>
                </a:lnTo>
                <a:lnTo>
                  <a:pt x="316" y="25"/>
                </a:lnTo>
                <a:lnTo>
                  <a:pt x="345" y="62"/>
                </a:lnTo>
                <a:lnTo>
                  <a:pt x="374" y="54"/>
                </a:lnTo>
                <a:lnTo>
                  <a:pt x="403" y="183"/>
                </a:lnTo>
                <a:lnTo>
                  <a:pt x="431" y="192"/>
                </a:lnTo>
                <a:lnTo>
                  <a:pt x="460" y="137"/>
                </a:lnTo>
                <a:lnTo>
                  <a:pt x="489" y="108"/>
                </a:lnTo>
                <a:lnTo>
                  <a:pt x="518" y="100"/>
                </a:lnTo>
              </a:path>
            </a:pathLst>
          </a:cu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3693960"/>
            <a:ext cx="7591320" cy="2079720"/>
          </a:xfrm>
          <a:custGeom>
            <a:avLst/>
            <a:gdLst/>
            <a:ahLst/>
            <a:rect l="l" t="t" r="r" b="b"/>
            <a:pathLst>
              <a:path w="518" h="142">
                <a:moveTo>
                  <a:pt x="0" y="0"/>
                </a:moveTo>
                <a:lnTo>
                  <a:pt x="29" y="4"/>
                </a:lnTo>
                <a:lnTo>
                  <a:pt x="58" y="42"/>
                </a:lnTo>
                <a:lnTo>
                  <a:pt x="87" y="100"/>
                </a:lnTo>
                <a:lnTo>
                  <a:pt x="115" y="79"/>
                </a:lnTo>
                <a:lnTo>
                  <a:pt x="144" y="142"/>
                </a:lnTo>
                <a:lnTo>
                  <a:pt x="173" y="75"/>
                </a:lnTo>
                <a:lnTo>
                  <a:pt x="202" y="71"/>
                </a:lnTo>
                <a:lnTo>
                  <a:pt x="230" y="84"/>
                </a:lnTo>
                <a:lnTo>
                  <a:pt x="259" y="79"/>
                </a:lnTo>
                <a:lnTo>
                  <a:pt x="288" y="4"/>
                </a:lnTo>
                <a:lnTo>
                  <a:pt x="316" y="8"/>
                </a:lnTo>
                <a:lnTo>
                  <a:pt x="345" y="8"/>
                </a:lnTo>
                <a:lnTo>
                  <a:pt x="374" y="59"/>
                </a:lnTo>
                <a:lnTo>
                  <a:pt x="403" y="92"/>
                </a:lnTo>
                <a:lnTo>
                  <a:pt x="431" y="100"/>
                </a:lnTo>
                <a:lnTo>
                  <a:pt x="460" y="67"/>
                </a:lnTo>
                <a:lnTo>
                  <a:pt x="489" y="56"/>
                </a:lnTo>
                <a:lnTo>
                  <a:pt x="518" y="5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000" y="6022800"/>
            <a:ext cx="3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1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" y="5407200"/>
            <a:ext cx="27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00" y="480708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00" y="419256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320" y="357660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9320" y="296244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9320" y="236232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9320" y="174636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900000">
            <a:off x="412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900000">
            <a:off x="8373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900000">
            <a:off x="12614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8900000">
            <a:off x="16869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8900000">
            <a:off x="20980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8900000">
            <a:off x="25218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900000">
            <a:off x="29473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900000">
            <a:off x="33728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900000">
            <a:off x="37821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8900000">
            <a:off x="42076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00000">
            <a:off x="4633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8900000">
            <a:off x="50428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8900000">
            <a:off x="5468040" y="521172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8900000">
            <a:off x="58935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900000">
            <a:off x="63176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8900000">
            <a:off x="67287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8900000">
            <a:off x="7163640" y="522900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8900000">
            <a:off x="75780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8900000">
            <a:off x="80035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35520" y="5700600"/>
            <a:ext cx="3327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8600" y="5861160"/>
            <a:ext cx="366480" cy="144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360" y="5743440"/>
            <a:ext cx="26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PI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6200" y="5861160"/>
            <a:ext cx="365400" cy="144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95880" y="5743440"/>
            <a:ext cx="31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L&amp;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21400" y="5861160"/>
            <a:ext cx="366480" cy="14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30360" y="5743440"/>
            <a:ext cx="113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Investiss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286000" y="1522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BM N° 3 : Softwar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16080" y="2408400"/>
            <a:ext cx="498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AP or Microso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16080" y="2941560"/>
            <a:ext cx="437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uthor(s) original creativity/smar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016080" y="3483000"/>
            <a:ext cx="490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itor/author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16080" y="4033800"/>
            <a:ext cx="5516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rketing and distribution et le mark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16080" y="5037120"/>
            <a:ext cx="559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Users (accepted or enforced) loy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16080" y="5570640"/>
            <a:ext cx="513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 K € 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16080" y="4503600"/>
            <a:ext cx="422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lobal  or n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8880" y="2371680"/>
            <a:ext cx="10350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8880" y="2905200"/>
            <a:ext cx="841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5640" y="3448080"/>
            <a:ext cx="1832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3998880"/>
            <a:ext cx="208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8880" y="5000760"/>
            <a:ext cx="1060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8880" y="5533920"/>
            <a:ext cx="19414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/h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8880" y="4467240"/>
            <a:ext cx="13269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362320" y="2286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M N° 4 :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44680" y="2421000"/>
            <a:ext cx="49849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Accenture or Cap Ge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44680" y="2916360"/>
            <a:ext cx="43754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ody Shopping  (1/1/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44680" y="3449520"/>
            <a:ext cx="49086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44680" y="4011480"/>
            <a:ext cx="5747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Client control + client business understa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4680" y="5049720"/>
            <a:ext cx="559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d13eb"/>
                </a:solidFill>
                <a:latin typeface="Arial"/>
              </a:rPr>
              <a:t>Partnering, mainly with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44680" y="5583240"/>
            <a:ext cx="51372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100 K € (in IT consul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276720" y="4516560"/>
            <a:ext cx="42228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Multi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8880" y="2371680"/>
            <a:ext cx="10350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8880" y="2905200"/>
            <a:ext cx="8413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3448080"/>
            <a:ext cx="183204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640" y="3998880"/>
            <a:ext cx="208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8880" y="5000760"/>
            <a:ext cx="10605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8880" y="5533920"/>
            <a:ext cx="19414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/head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8880" y="4467240"/>
            <a:ext cx="13269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34272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professionnal servic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gmentation based on Business Model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"/>
          <p:cNvSpPr/>
          <p:nvPr/>
        </p:nvSpPr>
        <p:spPr>
          <a:xfrm>
            <a:off x="990720" y="3124080"/>
            <a:ext cx="773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05040" y="2971800"/>
            <a:ext cx="766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4016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25780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62920" y="259092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2590920"/>
            <a:ext cx="133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65640" y="2590920"/>
            <a:ext cx="196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On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75280" y="2590920"/>
            <a:ext cx="2179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170840" y="2629080"/>
            <a:ext cx="161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onsulting/SS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16320" y="3062160"/>
            <a:ext cx="74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E 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78360" y="3062160"/>
            <a:ext cx="8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27680" y="3062160"/>
            <a:ext cx="73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 A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194600" y="3062160"/>
            <a:ext cx="1403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ACC.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06480" y="35053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06480" y="39625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06480" y="44197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06480" y="48769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06480" y="53341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06480" y="5791320"/>
            <a:ext cx="766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352600" y="3557520"/>
            <a:ext cx="107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T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22760" y="3557520"/>
            <a:ext cx="1033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363760" y="4052880"/>
            <a:ext cx="121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99240" y="4052880"/>
            <a:ext cx="79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81400" y="4471920"/>
            <a:ext cx="1047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Fa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722760" y="4471920"/>
            <a:ext cx="116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12160" y="4471920"/>
            <a:ext cx="187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Cl.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46520" y="4052880"/>
            <a:ext cx="13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31040" y="4052880"/>
            <a:ext cx="126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95960" y="3557520"/>
            <a:ext cx="2048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Body Sh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370240" y="4967280"/>
            <a:ext cx="84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Glo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64520" y="4967280"/>
            <a:ext cx="13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Multi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29240" y="4471920"/>
            <a:ext cx="137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19640" y="3573360"/>
            <a:ext cx="204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eation (Autho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04920" y="2593800"/>
            <a:ext cx="0" cy="350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" y="3062160"/>
            <a:ext cx="1035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6600" y="3557520"/>
            <a:ext cx="1069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06600" y="4052880"/>
            <a:ext cx="1555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.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06600" y="4471920"/>
            <a:ext cx="1589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.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639960" y="4967280"/>
            <a:ext cx="15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gion/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87840" y="4967280"/>
            <a:ext cx="146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Global/Ni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6600" y="4967280"/>
            <a:ext cx="132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6600" y="5424480"/>
            <a:ext cx="106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73880" y="5424480"/>
            <a:ext cx="131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Partn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551560" y="5424480"/>
            <a:ext cx="132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oyal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57400" y="5424480"/>
            <a:ext cx="1574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0ed6"/>
                </a:solidFill>
                <a:latin typeface="Arial"/>
              </a:rPr>
              <a:t>Scales e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67240" y="5424480"/>
            <a:ext cx="175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pe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6600" y="5843520"/>
            <a:ext cx="130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/Effec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4000" y="5843520"/>
            <a:ext cx="1211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gt; 150 K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64000" y="5843520"/>
            <a:ext cx="158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120 – 150 K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91160" y="5843520"/>
            <a:ext cx="124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 K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6000" y="5734080"/>
            <a:ext cx="13222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13eb"/>
                </a:solidFill>
                <a:latin typeface="Arial"/>
              </a:rPr>
              <a:t>100 K € 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storical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business models»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Tahoma"/>
              </a:rPr>
              <a:t>Global coverage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Another possible 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655640" y="1827000"/>
            <a:ext cx="7051680" cy="19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lobalization, Internet as a globalization eng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nk Global  Act Local etc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irds of a feather…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at about cultural roots ?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4800600"/>
            <a:ext cx="7772400" cy="0"/>
          </a:xfrm>
          <a:prstGeom prst="line">
            <a:avLst/>
          </a:prstGeom>
          <a:ln w="12600">
            <a:solidFill>
              <a:srgbClr val="1d13eb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68520" y="4156200"/>
            <a:ext cx="98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14120" y="4191120"/>
            <a:ext cx="112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6720" y="4890960"/>
            <a:ext cx="137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/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40320" y="4876920"/>
            <a:ext cx="17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/Europ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50720" y="4876920"/>
            <a:ext cx="183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ropean/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760" y="48769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/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0720" y="5486400"/>
            <a:ext cx="13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 Ge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161840" y="5486400"/>
            <a:ext cx="11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742120" y="5486400"/>
            <a:ext cx="9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5486400"/>
            <a:ext cx="1381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genc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egment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ademic (university)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storical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business models»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lobal coverage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Tahoma"/>
              </a:rPr>
              <a:t>Customer demand or perception approa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95640" y="189000"/>
            <a:ext cx="675612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nother look at Services Segmentation in IT 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38360" y="20638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920880" y="419724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38360" y="48070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56200" y="4121280"/>
            <a:ext cx="1476360" cy="1358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02080" y="2514600"/>
            <a:ext cx="112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46483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67336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67160" y="4572000"/>
            <a:ext cx="98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41200" y="3201840"/>
            <a:ext cx="7016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165480" y="335448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3201840"/>
            <a:ext cx="772920" cy="1141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800520" y="5183280"/>
            <a:ext cx="4903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11400" y="5030640"/>
            <a:ext cx="490680" cy="22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73280" y="1447920"/>
            <a:ext cx="780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327400" y="183528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39720" y="3968640"/>
            <a:ext cx="1252440" cy="128268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27400" y="450216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68640" y="3892680"/>
            <a:ext cx="1300320" cy="1282680"/>
          </a:xfrm>
          <a:prstGeom prst="ellipse">
            <a:avLst/>
          </a:prstGeom>
          <a:gradFill rotWithShape="0">
            <a:gsLst>
              <a:gs pos="0">
                <a:srgbClr val="9b9b9b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390760" y="2286000"/>
            <a:ext cx="112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3440" y="44197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eneva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462040" y="4952880"/>
            <a:ext cx="1125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H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19560" y="4343400"/>
            <a:ext cx="98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1760400" y="2973240"/>
            <a:ext cx="7718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954160" y="3125880"/>
            <a:ext cx="0" cy="1369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06600" y="2973240"/>
            <a:ext cx="843120" cy="1141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517560" y="4726080"/>
            <a:ext cx="4921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00080" y="4573440"/>
            <a:ext cx="490680" cy="303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803680" y="2655720"/>
            <a:ext cx="5197320" cy="544680"/>
            <a:chOff x="2803680" y="2655720"/>
            <a:chExt cx="5197320" cy="544680"/>
          </a:xfrm>
        </p:grpSpPr>
        <p:sp>
          <p:nvSpPr>
            <p:cNvPr id="668" name=""/>
            <p:cNvSpPr/>
            <p:nvPr/>
          </p:nvSpPr>
          <p:spPr>
            <a:xfrm>
              <a:off x="5334120" y="2655720"/>
              <a:ext cx="266688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ff"/>
                  </a:solidFill>
                  <a:latin typeface="Arial"/>
                </a:rPr>
                <a:t>What to do ?</a:t>
              </a: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 = Strate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803680" y="2819520"/>
              <a:ext cx="2301840" cy="126720"/>
            </a:xfrm>
            <a:custGeom>
              <a:avLst/>
              <a:gdLst>
                <a:gd name="textAreaLeft" fmla="*/ 0 w 2301840"/>
                <a:gd name="textAreaRight" fmla="*/ 2302200 w 2301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752480" y="3429000"/>
            <a:ext cx="6712200" cy="609480"/>
            <a:chOff x="1752480" y="3429000"/>
            <a:chExt cx="6712200" cy="609480"/>
          </a:xfrm>
        </p:grpSpPr>
        <p:sp>
          <p:nvSpPr>
            <p:cNvPr id="671" name=""/>
            <p:cNvSpPr/>
            <p:nvPr/>
          </p:nvSpPr>
          <p:spPr>
            <a:xfrm>
              <a:off x="5334120" y="3429000"/>
              <a:ext cx="3130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ff"/>
                  </a:solidFill>
                  <a:latin typeface="Arial"/>
                </a:rPr>
                <a:t>How  to do it ?</a:t>
              </a: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 = Consul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752480" y="3581280"/>
              <a:ext cx="3353040" cy="304920"/>
            </a:xfrm>
            <a:custGeom>
              <a:avLst/>
              <a:gdLst>
                <a:gd name="textAreaLeft" fmla="*/ 0 w 3353040"/>
                <a:gd name="textAreaRight" fmla="*/ 3353400 w 335304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8ffd">
                <a:alpha val="50000"/>
              </a:srgbClr>
            </a:solidFill>
            <a:ln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220760" y="3809880"/>
            <a:ext cx="7650360" cy="1295640"/>
            <a:chOff x="1220760" y="3809880"/>
            <a:chExt cx="7650360" cy="1295640"/>
          </a:xfrm>
        </p:grpSpPr>
        <p:sp>
          <p:nvSpPr>
            <p:cNvPr id="674" name=""/>
            <p:cNvSpPr/>
            <p:nvPr/>
          </p:nvSpPr>
          <p:spPr>
            <a:xfrm>
              <a:off x="5416560" y="4419720"/>
              <a:ext cx="345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ff"/>
                  </a:solidFill>
                  <a:latin typeface="Arial"/>
                </a:rPr>
                <a:t>We will make it for you !</a:t>
              </a: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= Services Integ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20760" y="3809880"/>
              <a:ext cx="3884760" cy="1143000"/>
            </a:xfrm>
            <a:custGeom>
              <a:avLst/>
              <a:gdLst>
                <a:gd name="textAreaLeft" fmla="*/ 0 w 3884760"/>
                <a:gd name="textAreaRight" fmla="*/ 3885120 w 38847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8ffd">
                <a:alpha val="50000"/>
              </a:srgbClr>
            </a:solidFill>
            <a:ln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187280" y="2708280"/>
            <a:ext cx="7620120" cy="3200400"/>
            <a:chOff x="1187280" y="2708280"/>
            <a:chExt cx="7620120" cy="3200400"/>
          </a:xfrm>
        </p:grpSpPr>
        <p:sp>
          <p:nvSpPr>
            <p:cNvPr id="677" name=""/>
            <p:cNvSpPr/>
            <p:nvPr/>
          </p:nvSpPr>
          <p:spPr>
            <a:xfrm>
              <a:off x="5527800" y="5298840"/>
              <a:ext cx="3279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ff"/>
                  </a:solidFill>
                  <a:latin typeface="Arial"/>
                </a:rPr>
                <a:t>We will run it for you !</a:t>
              </a: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= Business Integ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87280" y="2708280"/>
              <a:ext cx="3746520" cy="2819160"/>
            </a:xfrm>
            <a:prstGeom prst="rect">
              <a:avLst/>
            </a:prstGeom>
            <a:solidFill>
              <a:srgbClr val="618ffd">
                <a:alpha val="50000"/>
              </a:srgbClr>
            </a:solidFill>
            <a:ln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21200" y="5375160"/>
              <a:ext cx="512640" cy="177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18ffd">
                <a:alpha val="50000"/>
              </a:srgbClr>
            </a:solidFill>
            <a:ln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From Strategy to Operation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4920" y="228564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 the following slides, companies names may be erroneou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M&amp;A, LBOs, Names Changes etc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546360" y="457200"/>
            <a:ext cx="50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Group (or family) </a:t>
            </a:r>
            <a:r>
              <a:rPr b="1" lang="fr-FR" sz="32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38360" y="20638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20880" y="419724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538360" y="48070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156200" y="4121280"/>
            <a:ext cx="1323720" cy="1358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602080" y="2514600"/>
            <a:ext cx="112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14400" y="46483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7336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90840" y="4572000"/>
            <a:ext cx="98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41200" y="3201840"/>
            <a:ext cx="7016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65480" y="335448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7920" y="3201840"/>
            <a:ext cx="772920" cy="1141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800520" y="5183280"/>
            <a:ext cx="4903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111400" y="5030640"/>
            <a:ext cx="490680" cy="22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740000">
            <a:off x="1454040" y="1804680"/>
            <a:ext cx="2114640" cy="3944880"/>
          </a:xfrm>
          <a:prstGeom prst="ellipse">
            <a:avLst/>
          </a:prstGeom>
          <a:noFill/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419720" y="1569960"/>
            <a:ext cx="4038120" cy="1858680"/>
            <a:chOff x="4419720" y="1569960"/>
            <a:chExt cx="4038120" cy="1858680"/>
          </a:xfrm>
        </p:grpSpPr>
        <p:sp>
          <p:nvSpPr>
            <p:cNvPr id="699" name=""/>
            <p:cNvSpPr/>
            <p:nvPr/>
          </p:nvSpPr>
          <p:spPr>
            <a:xfrm>
              <a:off x="4419720" y="1569960"/>
              <a:ext cx="4038120" cy="1858680"/>
            </a:xfrm>
            <a:prstGeom prst="rect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9720" y="1676160"/>
              <a:ext cx="403812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Anglo-Saxons Strategists :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cKinsey, Bain, BCG, AT Kearney</a:t>
              </a:r>
              <a:br>
                <a:rPr sz="1800"/>
              </a:b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Booz Allen, Brax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ercer Management Consul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5562720" y="3809880"/>
            <a:ext cx="2895480" cy="137160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638680" y="3886200"/>
            <a:ext cx="312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Arial"/>
              </a:rPr>
              <a:t>French Strategists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Arial"/>
              </a:rPr>
              <a:t>Mars &amp; Co, OC&amp; C, Statorg, Teles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ycl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/- a decade (10 yea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ing first 2 years, leaders converge in their technical decisions, which in turn are adopted by followers : massific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ess players on supply side (merger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ilar behaviors and decisions  within  «major-accounts» (users – cli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ollowing same learning curve (cf Gartner), some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mino’s effect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nit costs are dropping as time p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creasing y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505320" y="457200"/>
            <a:ext cx="50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Group (or family) </a:t>
            </a:r>
            <a:r>
              <a:rPr b="1" lang="fr-FR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538360" y="20638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20880" y="419724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38360" y="48070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56200" y="4121280"/>
            <a:ext cx="1323720" cy="1358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02080" y="2514600"/>
            <a:ext cx="112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46483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7336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290840" y="4572000"/>
            <a:ext cx="98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041200" y="3201840"/>
            <a:ext cx="7016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65480" y="335448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517920" y="3201840"/>
            <a:ext cx="772920" cy="1141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800520" y="5183280"/>
            <a:ext cx="4903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11400" y="5030640"/>
            <a:ext cx="490680" cy="22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00000" y="2997360"/>
            <a:ext cx="3632400" cy="2501640"/>
          </a:xfrm>
          <a:prstGeom prst="ellipse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049720" y="1752480"/>
            <a:ext cx="3411720" cy="1905120"/>
            <a:chOff x="5049720" y="1752480"/>
            <a:chExt cx="3411720" cy="1905120"/>
          </a:xfrm>
        </p:grpSpPr>
        <p:sp>
          <p:nvSpPr>
            <p:cNvPr id="719" name=""/>
            <p:cNvSpPr/>
            <p:nvPr/>
          </p:nvSpPr>
          <p:spPr>
            <a:xfrm>
              <a:off x="5049720" y="1752480"/>
              <a:ext cx="3373560" cy="1905120"/>
            </a:xfrm>
            <a:prstGeom prst="rect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67000" y="1859040"/>
              <a:ext cx="33944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French generalists :</a:t>
              </a: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Eurogroup, Quadran, Algoe</a:t>
              </a:r>
              <a:br>
                <a:rPr sz="1800"/>
              </a:b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Cegos, l'ex Eurequip, Solving</a:t>
              </a:r>
              <a:br>
                <a:rPr sz="1800"/>
              </a:br>
              <a:r>
                <a:rPr b="1" lang="en-US" sz="1800" spc="-1" strike="noStrike">
                  <a:solidFill>
                    <a:srgbClr val="33cc33"/>
                  </a:solidFill>
                  <a:latin typeface="Arial"/>
                </a:rPr>
                <a:t>Orgaconseil, SV &amp; GM 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651640" y="3716280"/>
            <a:ext cx="2998440" cy="2285640"/>
            <a:chOff x="5651640" y="3716280"/>
            <a:chExt cx="2998440" cy="2285640"/>
          </a:xfrm>
        </p:grpSpPr>
        <p:sp>
          <p:nvSpPr>
            <p:cNvPr id="722" name=""/>
            <p:cNvSpPr/>
            <p:nvPr/>
          </p:nvSpPr>
          <p:spPr>
            <a:xfrm>
              <a:off x="5651640" y="3716280"/>
              <a:ext cx="2849400" cy="2285640"/>
            </a:xfrm>
            <a:prstGeom prst="rect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8560" y="3844080"/>
              <a:ext cx="298152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Former accountan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or auditors</a:t>
              </a:r>
              <a:br>
                <a:rPr sz="1800"/>
              </a:b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PWC Developpements,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Ernst &amp; Young Entrepre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Ineum PMO, 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KPMG Fidor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505320" y="457200"/>
            <a:ext cx="50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Group (or family) </a:t>
            </a:r>
            <a:r>
              <a:rPr b="1" lang="fr-FR" sz="3200" spc="-1" strike="noStrike">
                <a:solidFill>
                  <a:srgbClr val="063de8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1523520" y="3200400"/>
            <a:ext cx="701640" cy="12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276360" y="5334120"/>
            <a:ext cx="60948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04840" y="205740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7360" y="419112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04840" y="480060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22680" y="4114800"/>
            <a:ext cx="1324080" cy="13590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68560" y="2508120"/>
            <a:ext cx="1125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4641840"/>
            <a:ext cx="11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139840" y="525132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57680" y="4565520"/>
            <a:ext cx="984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631960" y="334800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984400" y="3195720"/>
            <a:ext cx="773280" cy="1141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77880" y="5024520"/>
            <a:ext cx="49068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200000">
            <a:off x="407880" y="3201840"/>
            <a:ext cx="4792680" cy="2044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29200" y="1523880"/>
            <a:ext cx="3429000" cy="464832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29200" y="1600200"/>
            <a:ext cx="38098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20dc1"/>
                </a:solidFill>
                <a:latin typeface="Arial"/>
              </a:rPr>
              <a:t>IT integrators</a:t>
            </a: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: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Accentu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C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IBM Consult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Cap Gemini : (Skill conseils </a:t>
            </a:r>
            <a:br>
              <a:rPr sz="1800"/>
            </a:b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 + Bossard + Gemini + Ernst)</a:t>
            </a:r>
            <a:br>
              <a:rPr sz="1800"/>
            </a:b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CSC + KPMG</a:t>
            </a:r>
            <a:br>
              <a:rPr sz="1800"/>
            </a:b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Atos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Steria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Sopra Consultants- M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Unilog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Oracle Consulting</a:t>
            </a:r>
            <a:br>
              <a:rPr sz="1800"/>
            </a:b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SAP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0ed6"/>
                </a:solidFill>
                <a:latin typeface="Arial"/>
              </a:rPr>
              <a:t>Microsoft Consul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505320" y="457200"/>
            <a:ext cx="50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Group (or family)</a:t>
            </a:r>
            <a:r>
              <a:rPr b="1" lang="fr-FR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90533e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38360" y="20638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20880" y="419724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38360" y="48070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156200" y="4121280"/>
            <a:ext cx="1323720" cy="1358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602080" y="2514600"/>
            <a:ext cx="112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é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46483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67336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290840" y="4572000"/>
            <a:ext cx="98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041200" y="3201840"/>
            <a:ext cx="7016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165480" y="335448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17920" y="3201840"/>
            <a:ext cx="772920" cy="11415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800520" y="5183280"/>
            <a:ext cx="4903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11400" y="5030640"/>
            <a:ext cx="490680" cy="22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828800" y="3048120"/>
            <a:ext cx="2133720" cy="297180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523880"/>
            <a:ext cx="4419720" cy="21337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962520" y="1523880"/>
            <a:ext cx="447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HR specialists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PA Consulting, William M. Mercer,</a:t>
            </a:r>
            <a:br>
              <a:rPr sz="1800"/>
            </a:b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Hay Management, DDI, Bernard Juilh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Bernard Brunhes, Cemis, Francis Vid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HGC, IDRH, Insep, Atefo, Quater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0533e"/>
                </a:solidFill>
                <a:latin typeface="Arial"/>
              </a:rPr>
              <a:t>Herbemont César, Alt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981080" y="457200"/>
            <a:ext cx="6512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Growth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38360" y="20638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20880" y="4197240"/>
            <a:ext cx="125388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38360" y="4807080"/>
            <a:ext cx="1254240" cy="128268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56200" y="4121280"/>
            <a:ext cx="1400040" cy="13586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91919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02080" y="2514600"/>
            <a:ext cx="1125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14400" y="4648320"/>
            <a:ext cx="112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673360" y="52578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367160" y="4648320"/>
            <a:ext cx="98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041200" y="3201840"/>
            <a:ext cx="70164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65480" y="3354480"/>
            <a:ext cx="0" cy="144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517920" y="3201840"/>
            <a:ext cx="825480" cy="1217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800520" y="5183280"/>
            <a:ext cx="490320" cy="226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111400" y="5030640"/>
            <a:ext cx="490680" cy="2271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2460000">
            <a:off x="1960200" y="2690640"/>
            <a:ext cx="4321080" cy="2302200"/>
          </a:xfrm>
          <a:prstGeom prst="ellipse">
            <a:avLst/>
          </a:prstGeom>
          <a:noFill/>
          <a:ln w="316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4427640" y="1557360"/>
            <a:ext cx="4716360" cy="1690560"/>
            <a:chOff x="4427640" y="1557360"/>
            <a:chExt cx="4716360" cy="1690560"/>
          </a:xfrm>
        </p:grpSpPr>
        <p:sp>
          <p:nvSpPr>
            <p:cNvPr id="774" name=""/>
            <p:cNvSpPr/>
            <p:nvPr/>
          </p:nvSpPr>
          <p:spPr>
            <a:xfrm>
              <a:off x="4427640" y="1557360"/>
              <a:ext cx="4500360" cy="1690560"/>
            </a:xfrm>
            <a:prstGeom prst="rect">
              <a:avLst/>
            </a:prstGeom>
            <a:noFill/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00720" y="1628640"/>
              <a:ext cx="464328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33"/>
                  </a:solidFill>
                  <a:latin typeface="Arial"/>
                </a:rPr>
                <a:t>Technology breaktroughs and «waves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33"/>
                  </a:solidFill>
                  <a:latin typeface="Arial"/>
                </a:rPr>
                <a:t>Glob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33"/>
                  </a:solidFill>
                  <a:latin typeface="Arial"/>
                </a:rPr>
                <a:t>Privatis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33"/>
                  </a:solidFill>
                  <a:latin typeface="Arial"/>
                </a:rPr>
                <a:t>M&amp;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33"/>
                  </a:solidFill>
                  <a:latin typeface="Arial"/>
                </a:rPr>
                <a:t>Compet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 rot="2460000">
            <a:off x="755280" y="4005360"/>
            <a:ext cx="3213000" cy="19177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867280" y="4581360"/>
            <a:ext cx="2958840" cy="1574640"/>
            <a:chOff x="5867280" y="4581360"/>
            <a:chExt cx="2958840" cy="1574640"/>
          </a:xfrm>
        </p:grpSpPr>
        <p:sp>
          <p:nvSpPr>
            <p:cNvPr id="778" name=""/>
            <p:cNvSpPr/>
            <p:nvPr/>
          </p:nvSpPr>
          <p:spPr>
            <a:xfrm>
              <a:off x="5879880" y="4581360"/>
              <a:ext cx="2946240" cy="15746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640040"/>
              <a:ext cx="2736720" cy="14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Cost cut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(Re) Organ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Procedures</a:t>
              </a:r>
              <a:br>
                <a:rPr sz="1800"/>
              </a:br>
              <a:r>
                <a:rPr b="1" lang="fr-FR" sz="1800" spc="-1" strike="noStrike">
                  <a:solidFill>
                    <a:srgbClr val="0000ff"/>
                  </a:solidFill>
                  <a:latin typeface="Arial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2464920" y="143208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Arial"/>
              </a:rPr>
              <a:t>Steady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208920" y="40971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Regular, « soft »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0500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0360" y="5638680"/>
            <a:ext cx="11142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76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5328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9948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676520"/>
            <a:ext cx="535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ayer comes on top, previous layers never disappear !!!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e millenium b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666880" y="3276720"/>
            <a:ext cx="11422800" cy="2730240"/>
            <a:chOff x="2666880" y="3276720"/>
            <a:chExt cx="11422800" cy="2730240"/>
          </a:xfrm>
        </p:grpSpPr>
        <p:sp>
          <p:nvSpPr>
            <p:cNvPr id="185" name=""/>
            <p:cNvSpPr/>
            <p:nvPr/>
          </p:nvSpPr>
          <p:spPr>
            <a:xfrm>
              <a:off x="2666880" y="5181480"/>
              <a:ext cx="830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7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69440" y="3284640"/>
              <a:ext cx="1452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obol 370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ICS e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66400" y="3276720"/>
              <a:ext cx="11123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77"/>
                  </a:moveTo>
                  <a:arcTo wR="10800" hR="10800" stAng="-10665179" swAng="5261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77"/>
                  </a:moveTo>
                  <a:arcTo wR="10800" hR="10800" stAng="-10665179" swAng="5261255"/>
                </a:path>
              </a:pathLst>
            </a:custGeom>
            <a:noFill/>
            <a:ln cap="rnd"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226040" y="2444760"/>
            <a:ext cx="8429040" cy="3568680"/>
            <a:chOff x="4226040" y="2444760"/>
            <a:chExt cx="8429040" cy="3568680"/>
          </a:xfrm>
        </p:grpSpPr>
        <p:sp>
          <p:nvSpPr>
            <p:cNvPr id="189" name=""/>
            <p:cNvSpPr/>
            <p:nvPr/>
          </p:nvSpPr>
          <p:spPr>
            <a:xfrm>
              <a:off x="4226040" y="5187960"/>
              <a:ext cx="812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8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57880" y="2590920"/>
              <a:ext cx="2819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Minis &amp; department's 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(VAR Digital, HP, D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8480" y="2444760"/>
              <a:ext cx="80766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571" swAng="5382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571" swAng="5382517"/>
                </a:path>
              </a:pathLst>
            </a:custGeom>
            <a:noFill/>
            <a:ln cap="rnd"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773680" y="1530360"/>
            <a:ext cx="5814720" cy="4489560"/>
            <a:chOff x="5773680" y="1530360"/>
            <a:chExt cx="5814720" cy="4489560"/>
          </a:xfrm>
        </p:grpSpPr>
        <p:sp>
          <p:nvSpPr>
            <p:cNvPr id="193" name=""/>
            <p:cNvSpPr/>
            <p:nvPr/>
          </p:nvSpPr>
          <p:spPr>
            <a:xfrm>
              <a:off x="5773680" y="5194440"/>
              <a:ext cx="83196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9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21680" y="5194440"/>
              <a:ext cx="10429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8120" y="1752480"/>
              <a:ext cx="2406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icros</a:t>
              </a:r>
              <a:br>
                <a:rPr sz="1800"/>
              </a:b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( Client/Server, ER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02360" y="1530360"/>
              <a:ext cx="5486040" cy="22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131840" y="4121280"/>
            <a:ext cx="14266800" cy="2133000"/>
            <a:chOff x="1131840" y="4121280"/>
            <a:chExt cx="14266800" cy="2133000"/>
          </a:xfrm>
        </p:grpSpPr>
        <p:sp>
          <p:nvSpPr>
            <p:cNvPr id="198" name=""/>
            <p:cNvSpPr/>
            <p:nvPr/>
          </p:nvSpPr>
          <p:spPr>
            <a:xfrm>
              <a:off x="1131840" y="5187960"/>
              <a:ext cx="82080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6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00960" y="4471920"/>
              <a:ext cx="19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18ffd"/>
                  </a:solidFill>
                  <a:latin typeface="Arial"/>
                </a:rPr>
                <a:t>Assembler &amp;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30360" y="4121280"/>
              <a:ext cx="1386828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6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65765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sequences for you :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1d13eb"/>
                </a:solidFill>
                <a:latin typeface="Tahoma"/>
              </a:rPr>
              <a:t>Next 2/3 years (-&gt; 2009/10 ?) IT market conditions are favorable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a scarce resourc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weeks to get a (first)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t job salary still ri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n, you have +/- 10 years (i.e. 2 or 3 professional cycles) to acquire or develop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ther skills than IT technical ski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lents / Knowledge /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0:17:54Z</dcterms:created>
  <dc:creator>Consultant</dc:creator>
  <dc:description/>
  <dc:language>en-US</dc:language>
  <cp:lastModifiedBy>Consultant</cp:lastModifiedBy>
  <dcterms:modified xsi:type="dcterms:W3CDTF">2007-10-22T20:19:35Z</dcterms:modified>
  <cp:revision>9</cp:revision>
  <dc:subject/>
  <dc:title>Diapositive 1</dc:title>
</cp:coreProperties>
</file>