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1219320"/>
            <a:ext cx="7391160" cy="0"/>
          </a:xfrm>
          <a:prstGeom prst="line">
            <a:avLst/>
          </a:prstGeom>
          <a:ln w="34920">
            <a:solidFill>
              <a:srgbClr val="1d1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222040" y="6586560"/>
            <a:ext cx="115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822D25D0-88D7-4D25-B745-B9E1C07EC9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575520" y="6477120"/>
            <a:ext cx="234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an-Noël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rg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 mai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129880" y="6491160"/>
            <a:ext cx="129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FAC6-D1BA-46D0-805E-6065611908D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/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11160" y="6324480"/>
            <a:ext cx="3158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Garamond"/>
              </a:rPr>
              <a:t>Jean-Noël Gorge, oct 9th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434960" y="6184800"/>
            <a:ext cx="7467840" cy="0"/>
          </a:xfrm>
          <a:prstGeom prst="line">
            <a:avLst/>
          </a:prstGeom>
          <a:ln w="3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822800" y="6319800"/>
            <a:ext cx="15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D919-7ED2-467F-8F17-174022840D5F}" type="slidenum">
              <a:rPr b="1" lang="en-US" sz="1600" spc="-1" strike="noStrike">
                <a:solidFill>
                  <a:srgbClr val="000099"/>
                </a:solidFill>
                <a:latin typeface="Garamond"/>
              </a:rPr>
              <a:t>&lt;number&gt;</a:t>
            </a:fld>
            <a:r>
              <a:rPr b="1" lang="en-US" sz="1600" spc="-1" strike="noStrike">
                <a:solidFill>
                  <a:srgbClr val="000099"/>
                </a:solidFill>
                <a:latin typeface="Garamond"/>
              </a:rPr>
              <a:t>/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22640" cy="113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1219320"/>
            <a:ext cx="7391160" cy="0"/>
          </a:xfrm>
          <a:prstGeom prst="line">
            <a:avLst/>
          </a:prstGeom>
          <a:ln w="34920">
            <a:solidFill>
              <a:srgbClr val="1d1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22040" y="6586560"/>
            <a:ext cx="115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D94853A3-1136-4327-ADB0-1CCD67E1D8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75520" y="6477120"/>
            <a:ext cx="234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an-Noël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rg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 mai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29880" y="6491160"/>
            <a:ext cx="129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E247-2CCD-4016-8590-E1244F55AE2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/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11160" y="6324480"/>
            <a:ext cx="3158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Garamond"/>
              </a:rPr>
              <a:t>Jean-Noël Gorge, oct 9th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34960" y="6184800"/>
            <a:ext cx="7467840" cy="0"/>
          </a:xfrm>
          <a:prstGeom prst="line">
            <a:avLst/>
          </a:prstGeom>
          <a:ln w="3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22800" y="6319800"/>
            <a:ext cx="15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B328-ED3D-4582-A94A-2CE673D93255}" type="slidenum">
              <a:rPr b="1" lang="en-US" sz="1600" spc="-1" strike="noStrike">
                <a:solidFill>
                  <a:srgbClr val="000099"/>
                </a:solidFill>
                <a:latin typeface="Garamond"/>
              </a:rPr>
              <a:t>&lt;number&gt;</a:t>
            </a:fld>
            <a:r>
              <a:rPr b="1" lang="en-US" sz="1600" spc="-1" strike="noStrike">
                <a:solidFill>
                  <a:srgbClr val="000099"/>
                </a:solidFill>
                <a:latin typeface="Garamond"/>
              </a:rPr>
              <a:t>/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22640" cy="1130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600" spc="-1" strike="noStrike">
                <a:solidFill>
                  <a:srgbClr val="000099"/>
                </a:solidFill>
                <a:latin typeface="Tahoma"/>
              </a:rPr>
              <a:t>EPITA</a:t>
            </a:r>
            <a:br>
              <a:rPr sz="3600"/>
            </a:br>
            <a:br>
              <a:rPr sz="3600"/>
            </a:b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T Markets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Basic Finance and Marketing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919191"/>
                </a:solidFill>
                <a:latin typeface="Tahoma"/>
              </a:rPr>
              <a:t>Lecture #3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919191"/>
                </a:solidFill>
                <a:latin typeface="Tahoma"/>
              </a:rPr>
              <a:t>Oct 9th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Do we have long « cycles » in IT ???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One way of describing a cycle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4247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24000" y="1484280"/>
            <a:ext cx="8569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775640" y="3573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+6 à +8% (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96360" y="46674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+1,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496360" y="44370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+3,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3880" y="1863720"/>
            <a:ext cx="1440" cy="427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5200" y="6140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5200" y="55245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5200" y="492444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5200" y="43084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5200" y="369396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5200" y="30798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5200" y="247824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5200" y="18637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3880" y="4924440"/>
            <a:ext cx="8001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2388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047600" y="4924080"/>
            <a:ext cx="180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45908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884240" y="4924080"/>
            <a:ext cx="180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30832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73384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14496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56868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99420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41972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29040" y="4924080"/>
            <a:ext cx="180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254560" y="4924080"/>
            <a:ext cx="180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68008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103800" y="4924080"/>
            <a:ext cx="180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51528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940440" y="4924080"/>
            <a:ext cx="180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36452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79004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20116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862488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8720" y="4352760"/>
            <a:ext cx="7591320" cy="673200"/>
          </a:xfrm>
          <a:custGeom>
            <a:avLst/>
            <a:gdLst/>
            <a:ahLst/>
            <a:rect l="l" t="t" r="r" b="b"/>
            <a:pathLst>
              <a:path w="518" h="46">
                <a:moveTo>
                  <a:pt x="0" y="0"/>
                </a:moveTo>
                <a:lnTo>
                  <a:pt x="29" y="4"/>
                </a:lnTo>
                <a:lnTo>
                  <a:pt x="58" y="17"/>
                </a:lnTo>
                <a:lnTo>
                  <a:pt x="87" y="30"/>
                </a:lnTo>
                <a:lnTo>
                  <a:pt x="115" y="26"/>
                </a:lnTo>
                <a:lnTo>
                  <a:pt x="144" y="46"/>
                </a:lnTo>
                <a:lnTo>
                  <a:pt x="173" y="21"/>
                </a:lnTo>
                <a:lnTo>
                  <a:pt x="202" y="24"/>
                </a:lnTo>
                <a:lnTo>
                  <a:pt x="230" y="29"/>
                </a:lnTo>
                <a:lnTo>
                  <a:pt x="259" y="23"/>
                </a:lnTo>
                <a:lnTo>
                  <a:pt x="288" y="10"/>
                </a:lnTo>
                <a:lnTo>
                  <a:pt x="316" y="12"/>
                </a:lnTo>
                <a:lnTo>
                  <a:pt x="345" y="7"/>
                </a:lnTo>
                <a:lnTo>
                  <a:pt x="374" y="21"/>
                </a:lnTo>
                <a:lnTo>
                  <a:pt x="403" y="29"/>
                </a:lnTo>
                <a:lnTo>
                  <a:pt x="431" y="34"/>
                </a:lnTo>
                <a:lnTo>
                  <a:pt x="460" y="18"/>
                </a:lnTo>
                <a:lnTo>
                  <a:pt x="489" y="27"/>
                </a:lnTo>
                <a:lnTo>
                  <a:pt x="518" y="24"/>
                </a:lnTo>
              </a:path>
            </a:pathLst>
          </a:custGeom>
          <a:noFill/>
          <a:ln w="442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28720" y="2478240"/>
            <a:ext cx="7591320" cy="2813040"/>
          </a:xfrm>
          <a:custGeom>
            <a:avLst/>
            <a:gdLst/>
            <a:ahLst/>
            <a:rect l="l" t="t" r="r" b="b"/>
            <a:pathLst>
              <a:path w="518" h="192">
                <a:moveTo>
                  <a:pt x="0" y="33"/>
                </a:moveTo>
                <a:lnTo>
                  <a:pt x="29" y="25"/>
                </a:lnTo>
                <a:lnTo>
                  <a:pt x="58" y="41"/>
                </a:lnTo>
                <a:lnTo>
                  <a:pt x="87" y="125"/>
                </a:lnTo>
                <a:lnTo>
                  <a:pt x="115" y="137"/>
                </a:lnTo>
                <a:lnTo>
                  <a:pt x="144" y="187"/>
                </a:lnTo>
                <a:lnTo>
                  <a:pt x="173" y="137"/>
                </a:lnTo>
                <a:lnTo>
                  <a:pt x="202" y="125"/>
                </a:lnTo>
                <a:lnTo>
                  <a:pt x="230" y="117"/>
                </a:lnTo>
                <a:lnTo>
                  <a:pt x="259" y="50"/>
                </a:lnTo>
                <a:lnTo>
                  <a:pt x="288" y="0"/>
                </a:lnTo>
                <a:lnTo>
                  <a:pt x="316" y="25"/>
                </a:lnTo>
                <a:lnTo>
                  <a:pt x="345" y="62"/>
                </a:lnTo>
                <a:lnTo>
                  <a:pt x="374" y="54"/>
                </a:lnTo>
                <a:lnTo>
                  <a:pt x="403" y="183"/>
                </a:lnTo>
                <a:lnTo>
                  <a:pt x="431" y="192"/>
                </a:lnTo>
                <a:lnTo>
                  <a:pt x="460" y="137"/>
                </a:lnTo>
                <a:lnTo>
                  <a:pt x="489" y="108"/>
                </a:lnTo>
                <a:lnTo>
                  <a:pt x="518" y="100"/>
                </a:lnTo>
              </a:path>
            </a:pathLst>
          </a:custGeom>
          <a:noFill/>
          <a:ln w="442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8720" y="3693960"/>
            <a:ext cx="7591320" cy="2079720"/>
          </a:xfrm>
          <a:custGeom>
            <a:avLst/>
            <a:gdLst/>
            <a:ahLst/>
            <a:rect l="l" t="t" r="r" b="b"/>
            <a:pathLst>
              <a:path w="518" h="142">
                <a:moveTo>
                  <a:pt x="0" y="0"/>
                </a:moveTo>
                <a:lnTo>
                  <a:pt x="29" y="4"/>
                </a:lnTo>
                <a:lnTo>
                  <a:pt x="58" y="42"/>
                </a:lnTo>
                <a:lnTo>
                  <a:pt x="87" y="100"/>
                </a:lnTo>
                <a:lnTo>
                  <a:pt x="115" y="79"/>
                </a:lnTo>
                <a:lnTo>
                  <a:pt x="144" y="142"/>
                </a:lnTo>
                <a:lnTo>
                  <a:pt x="173" y="75"/>
                </a:lnTo>
                <a:lnTo>
                  <a:pt x="202" y="71"/>
                </a:lnTo>
                <a:lnTo>
                  <a:pt x="230" y="84"/>
                </a:lnTo>
                <a:lnTo>
                  <a:pt x="259" y="79"/>
                </a:lnTo>
                <a:lnTo>
                  <a:pt x="288" y="4"/>
                </a:lnTo>
                <a:lnTo>
                  <a:pt x="316" y="8"/>
                </a:lnTo>
                <a:lnTo>
                  <a:pt x="345" y="8"/>
                </a:lnTo>
                <a:lnTo>
                  <a:pt x="374" y="59"/>
                </a:lnTo>
                <a:lnTo>
                  <a:pt x="403" y="92"/>
                </a:lnTo>
                <a:lnTo>
                  <a:pt x="431" y="100"/>
                </a:lnTo>
                <a:lnTo>
                  <a:pt x="460" y="67"/>
                </a:lnTo>
                <a:lnTo>
                  <a:pt x="489" y="56"/>
                </a:lnTo>
                <a:lnTo>
                  <a:pt x="518" y="54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1000" y="6022800"/>
            <a:ext cx="35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-10,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8120" y="5407200"/>
            <a:ext cx="27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-5,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800" y="4807080"/>
            <a:ext cx="21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0,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6800" y="4192560"/>
            <a:ext cx="21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5,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9320" y="3576600"/>
            <a:ext cx="30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10,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9320" y="2962440"/>
            <a:ext cx="30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15,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9320" y="2362320"/>
            <a:ext cx="30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20,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39320" y="1746360"/>
            <a:ext cx="30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25,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8900000">
            <a:off x="41220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8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8900000">
            <a:off x="83736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8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8900000">
            <a:off x="126144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8900000">
            <a:off x="168696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8900000">
            <a:off x="209808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900000">
            <a:off x="252180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900000">
            <a:off x="294732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8900000">
            <a:off x="337284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900000">
            <a:off x="378216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8900000">
            <a:off x="420768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900000">
            <a:off x="463320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8900000">
            <a:off x="504288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8900000">
            <a:off x="5468040" y="521172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2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8900000">
            <a:off x="589356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20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900000">
            <a:off x="631764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20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8900000">
            <a:off x="672876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20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8900000">
            <a:off x="7163640" y="522900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20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8900000">
            <a:off x="757800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20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8900000">
            <a:off x="800352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20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35520" y="5700600"/>
            <a:ext cx="33271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08600" y="5861160"/>
            <a:ext cx="366480" cy="1440"/>
          </a:xfrm>
          <a:prstGeom prst="line">
            <a:avLst/>
          </a:prstGeom>
          <a:ln w="442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19360" y="5743440"/>
            <a:ext cx="26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PI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86200" y="5861160"/>
            <a:ext cx="365400" cy="1440"/>
          </a:xfrm>
          <a:prstGeom prst="line">
            <a:avLst/>
          </a:prstGeom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95880" y="5743440"/>
            <a:ext cx="31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L&amp;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621400" y="5861160"/>
            <a:ext cx="366480" cy="144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30360" y="5743440"/>
            <a:ext cx="1131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Investiss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Software and software services (Syntec) growth inFrance (%)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93600" y="1371600"/>
          <a:ext cx="9070920" cy="46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0" y="1371600"/>
                    <a:ext cx="907092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ycles ? Probably !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sonal opinion, based on experienc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: more or less 10 yea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it takes for a major technology to roll all along Gartner Group’s curv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 little bit of history… 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wards integration…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ycle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/- a decade (10 yea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ing first 2 years, leaders converge in their technical decisions, which in turn are adopted by followers : massific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Less players on supply side (mergers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ilar behaviors and decisions  within  «major-accounts» (users – cli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ollowing same learning curve (cf Gartner), some a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omino’s effect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Unit costs are dropping as time pa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ncreasing y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858960" y="2698920"/>
            <a:ext cx="11952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320" y="2514600"/>
            <a:ext cx="1042920" cy="647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320" y="3352680"/>
            <a:ext cx="1042920" cy="64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ch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320" y="4114800"/>
            <a:ext cx="1042920" cy="647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me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ch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320" y="4876920"/>
            <a:ext cx="104292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320" y="1523880"/>
            <a:ext cx="1042920" cy="762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411280" y="3885840"/>
            <a:ext cx="4572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05000" y="5638680"/>
            <a:ext cx="114300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970360" y="5638680"/>
            <a:ext cx="111420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57680" y="5638680"/>
            <a:ext cx="114300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53280" y="5638680"/>
            <a:ext cx="112392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899480" y="5638680"/>
            <a:ext cx="104292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858960" y="2698920"/>
            <a:ext cx="11952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68280" y="5638680"/>
            <a:ext cx="114300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36800" y="5638680"/>
            <a:ext cx="111456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27640" y="5638680"/>
            <a:ext cx="114300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959440" y="5638680"/>
            <a:ext cx="112392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92320" y="1143000"/>
            <a:ext cx="1660320" cy="1523880"/>
          </a:xfrm>
          <a:prstGeom prst="rightArrow">
            <a:avLst>
              <a:gd name="adj1" fmla="val 50000"/>
              <a:gd name="adj2" fmla="val 34391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65400" y="2514600"/>
            <a:ext cx="1145880" cy="647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60 &amp;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68280" y="3352680"/>
            <a:ext cx="114300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unched C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71520" y="4114800"/>
            <a:ext cx="1139760" cy="6350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ract. Dis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SI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apes, disc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S B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68280" y="4876920"/>
            <a:ext cx="1143000" cy="609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411280" y="3885840"/>
            <a:ext cx="4572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01040" y="5638680"/>
            <a:ext cx="104292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320" y="2514600"/>
            <a:ext cx="1042920" cy="647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320" y="3352680"/>
            <a:ext cx="1042920" cy="64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ch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320" y="4114800"/>
            <a:ext cx="1042920" cy="647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me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ch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9320" y="4876920"/>
            <a:ext cx="104292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320" y="1523880"/>
            <a:ext cx="1042920" cy="762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ycle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58960" y="2698920"/>
            <a:ext cx="11952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68280" y="5638680"/>
            <a:ext cx="114300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36800" y="5638680"/>
            <a:ext cx="111456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27640" y="5638680"/>
            <a:ext cx="114300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959440" y="5638680"/>
            <a:ext cx="112392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92320" y="1143000"/>
            <a:ext cx="1660320" cy="1523880"/>
          </a:xfrm>
          <a:prstGeom prst="rightArrow">
            <a:avLst>
              <a:gd name="adj1" fmla="val 50000"/>
              <a:gd name="adj2" fmla="val 34391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71640" y="1143000"/>
            <a:ext cx="1719360" cy="1523880"/>
          </a:xfrm>
          <a:prstGeom prst="rightArrow">
            <a:avLst>
              <a:gd name="adj1" fmla="val 50000"/>
              <a:gd name="adj2" fmla="val 35614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65400" y="2514600"/>
            <a:ext cx="1145880" cy="647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60 &amp;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36800" y="2514600"/>
            <a:ext cx="1114560" cy="647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7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268280" y="3352680"/>
            <a:ext cx="114300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unched C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47960" y="3352680"/>
            <a:ext cx="110340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ract. Disp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SI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apes, disc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S B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271520" y="4114800"/>
            <a:ext cx="1139760" cy="6350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ract. Dis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SI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apes, disc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S B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36800" y="4114800"/>
            <a:ext cx="1114560" cy="647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icrocod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SI  7  DB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ime-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268280" y="4876920"/>
            <a:ext cx="1143000" cy="609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36800" y="4876920"/>
            <a:ext cx="11145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411280" y="3885840"/>
            <a:ext cx="4572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990960" y="3809880"/>
            <a:ext cx="45720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601040" y="5638680"/>
            <a:ext cx="104292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320" y="2514600"/>
            <a:ext cx="1042920" cy="647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9320" y="3352680"/>
            <a:ext cx="1042920" cy="64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ch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320" y="4114800"/>
            <a:ext cx="1042920" cy="647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me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ch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320" y="4876920"/>
            <a:ext cx="104292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320" y="1523880"/>
            <a:ext cx="1042920" cy="762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ycle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Previous week V.I.P.</a:t>
            </a:r>
            <a:br>
              <a:rPr sz="3200"/>
            </a:br>
            <a:r>
              <a:rPr b="1" lang="fr-FR" sz="2000" spc="-1" strike="noStrike">
                <a:solidFill>
                  <a:srgbClr val="000099"/>
                </a:solidFill>
                <a:latin typeface="Tahoma"/>
              </a:rPr>
              <a:t>(Very Important Points)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858960" y="2698920"/>
            <a:ext cx="11952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68280" y="5638680"/>
            <a:ext cx="114300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36800" y="5638680"/>
            <a:ext cx="111456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27640" y="5638680"/>
            <a:ext cx="114300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59440" y="5638680"/>
            <a:ext cx="112392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92320" y="1143000"/>
            <a:ext cx="1660320" cy="1523880"/>
          </a:xfrm>
          <a:prstGeom prst="rightArrow">
            <a:avLst>
              <a:gd name="adj1" fmla="val 50000"/>
              <a:gd name="adj2" fmla="val 34391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71640" y="1143000"/>
            <a:ext cx="1719360" cy="1523880"/>
          </a:xfrm>
          <a:prstGeom prst="rightArrow">
            <a:avLst>
              <a:gd name="adj1" fmla="val 50000"/>
              <a:gd name="adj2" fmla="val 35614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38800" y="1143000"/>
            <a:ext cx="1660320" cy="1523880"/>
          </a:xfrm>
          <a:prstGeom prst="rightArrow">
            <a:avLst>
              <a:gd name="adj1" fmla="val 50000"/>
              <a:gd name="adj2" fmla="val 34391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s’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65400" y="2514600"/>
            <a:ext cx="1145880" cy="647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60 &amp;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836800" y="2514600"/>
            <a:ext cx="1114560" cy="647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7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27640" y="2514600"/>
            <a:ext cx="1143000" cy="647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68280" y="3352680"/>
            <a:ext cx="114300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unched C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47960" y="3352680"/>
            <a:ext cx="110340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ract. Disp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SI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apes, disc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S B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27640" y="3352680"/>
            <a:ext cx="114300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icrocod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SI  7  DB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ime-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71520" y="4114800"/>
            <a:ext cx="1139760" cy="6350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ract. Dis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SI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apes, disc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S B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36800" y="4114800"/>
            <a:ext cx="1114560" cy="647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icrocod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SI  7  DB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ime-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27640" y="4114800"/>
            <a:ext cx="114300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icroproces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raphic Display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N  DB-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68280" y="4876920"/>
            <a:ext cx="1143000" cy="609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836800" y="4876920"/>
            <a:ext cx="11145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27640" y="4876920"/>
            <a:ext cx="1143000" cy="609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411280" y="3885840"/>
            <a:ext cx="4572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990960" y="3809880"/>
            <a:ext cx="45720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570640" y="3885840"/>
            <a:ext cx="4572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601040" y="5638680"/>
            <a:ext cx="104292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320" y="2514600"/>
            <a:ext cx="1042920" cy="647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320" y="3352680"/>
            <a:ext cx="1042920" cy="64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ch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320" y="4114800"/>
            <a:ext cx="1042920" cy="647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me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ch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9320" y="4876920"/>
            <a:ext cx="104292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9320" y="1523880"/>
            <a:ext cx="1042920" cy="762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ycle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58960" y="2698920"/>
            <a:ext cx="11952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68280" y="5638680"/>
            <a:ext cx="114300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36800" y="5638680"/>
            <a:ext cx="111456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427640" y="5638680"/>
            <a:ext cx="114300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959440" y="5638680"/>
            <a:ext cx="112392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92320" y="1143000"/>
            <a:ext cx="1660320" cy="1523880"/>
          </a:xfrm>
          <a:prstGeom prst="rightArrow">
            <a:avLst>
              <a:gd name="adj1" fmla="val 50000"/>
              <a:gd name="adj2" fmla="val 34391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38800" y="1143000"/>
            <a:ext cx="1660320" cy="1523880"/>
          </a:xfrm>
          <a:prstGeom prst="rightArrow">
            <a:avLst>
              <a:gd name="adj1" fmla="val 50000"/>
              <a:gd name="adj2" fmla="val 34391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s’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940360" y="1143000"/>
            <a:ext cx="1658880" cy="1523880"/>
          </a:xfrm>
          <a:prstGeom prst="rightArrow">
            <a:avLst>
              <a:gd name="adj1" fmla="val 50000"/>
              <a:gd name="adj2" fmla="val 34361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65400" y="2514600"/>
            <a:ext cx="1145880" cy="647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60 &amp;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36800" y="2514600"/>
            <a:ext cx="1114560" cy="647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7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27640" y="2514600"/>
            <a:ext cx="1143000" cy="647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959440" y="2514600"/>
            <a:ext cx="11239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68280" y="3352680"/>
            <a:ext cx="114300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unched C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847960" y="3352680"/>
            <a:ext cx="110340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ract. Disp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SI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apes, disc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S B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27640" y="3352680"/>
            <a:ext cx="114300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icrocod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SI  7  DB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ime-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959440" y="3352680"/>
            <a:ext cx="1123920" cy="648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icroproces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raphic Display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N  DB-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271520" y="4114800"/>
            <a:ext cx="1139760" cy="6350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ract. Dis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SI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apes, disc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S B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36800" y="4114800"/>
            <a:ext cx="1114560" cy="647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icrocod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SI  7  DB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ime-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27640" y="4114800"/>
            <a:ext cx="114300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icroproces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raphic Display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N  DB-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59440" y="4114800"/>
            <a:ext cx="112392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AN, fibre o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ternet,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TML, 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68280" y="4876920"/>
            <a:ext cx="1143000" cy="609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836800" y="4876920"/>
            <a:ext cx="11145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427640" y="4876920"/>
            <a:ext cx="1143000" cy="609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1520" y="4876920"/>
            <a:ext cx="1147680" cy="6188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100%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Internal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411280" y="3885840"/>
            <a:ext cx="4572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990960" y="3809880"/>
            <a:ext cx="45720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570640" y="3885840"/>
            <a:ext cx="4572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01040" y="5638680"/>
            <a:ext cx="104292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9320" y="2514600"/>
            <a:ext cx="1042920" cy="647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20" y="3352680"/>
            <a:ext cx="1042920" cy="64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ch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9320" y="4114800"/>
            <a:ext cx="1042920" cy="647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me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ch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9320" y="4876920"/>
            <a:ext cx="104292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320" y="1523880"/>
            <a:ext cx="1042920" cy="762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ycle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71640" y="1143000"/>
            <a:ext cx="1719360" cy="1523880"/>
          </a:xfrm>
          <a:prstGeom prst="rightArrow">
            <a:avLst>
              <a:gd name="adj1" fmla="val 50000"/>
              <a:gd name="adj2" fmla="val 35614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858960" y="2698920"/>
            <a:ext cx="11952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268280" y="5638680"/>
            <a:ext cx="114300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36800" y="5638680"/>
            <a:ext cx="111456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427640" y="5638680"/>
            <a:ext cx="114300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959440" y="5638680"/>
            <a:ext cx="112392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92320" y="1143000"/>
            <a:ext cx="1660320" cy="1523880"/>
          </a:xfrm>
          <a:prstGeom prst="rightArrow">
            <a:avLst>
              <a:gd name="adj1" fmla="val 50000"/>
              <a:gd name="adj2" fmla="val 34391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771640" y="1143000"/>
            <a:ext cx="1719360" cy="1523880"/>
          </a:xfrm>
          <a:prstGeom prst="rightArrow">
            <a:avLst>
              <a:gd name="adj1" fmla="val 50000"/>
              <a:gd name="adj2" fmla="val 35614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438800" y="1143000"/>
            <a:ext cx="1660320" cy="1523880"/>
          </a:xfrm>
          <a:prstGeom prst="rightArrow">
            <a:avLst>
              <a:gd name="adj1" fmla="val 50000"/>
              <a:gd name="adj2" fmla="val 34391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s’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940360" y="1143000"/>
            <a:ext cx="1658880" cy="1523880"/>
          </a:xfrm>
          <a:prstGeom prst="rightArrow">
            <a:avLst>
              <a:gd name="adj1" fmla="val 50000"/>
              <a:gd name="adj2" fmla="val 34361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65400" y="2514600"/>
            <a:ext cx="1145880" cy="647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60 &amp;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836800" y="2514600"/>
            <a:ext cx="1114560" cy="647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7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427640" y="2514600"/>
            <a:ext cx="1143000" cy="647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959440" y="2514600"/>
            <a:ext cx="11239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68280" y="3352680"/>
            <a:ext cx="114300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unched C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47960" y="3352680"/>
            <a:ext cx="110340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ract. Disp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SI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apes, disc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S B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27640" y="3352680"/>
            <a:ext cx="114300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icrocod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SI  7  DB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ime-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959440" y="3352680"/>
            <a:ext cx="1123920" cy="648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icroproces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raphic Display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N  DB-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271520" y="4114800"/>
            <a:ext cx="1139760" cy="6350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ract. Dis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SI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apes, disc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S B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36800" y="4114800"/>
            <a:ext cx="1114560" cy="647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icrocod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SI  7  DB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ime-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427640" y="4114800"/>
            <a:ext cx="114300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icroproces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raphic Display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N  DB-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59440" y="4114800"/>
            <a:ext cx="112392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AN, fibre o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ternet,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TML, 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268280" y="4876920"/>
            <a:ext cx="1143000" cy="609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36800" y="4876920"/>
            <a:ext cx="1114560" cy="609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427640" y="4876920"/>
            <a:ext cx="1143000" cy="609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951520" y="4876920"/>
            <a:ext cx="1147680" cy="6188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100%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Internal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411280" y="3885840"/>
            <a:ext cx="4572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990960" y="3809880"/>
            <a:ext cx="45720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5570640" y="3885840"/>
            <a:ext cx="4572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01040" y="5638680"/>
            <a:ext cx="104292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524720" y="1143000"/>
            <a:ext cx="1660680" cy="1523880"/>
          </a:xfrm>
          <a:prstGeom prst="rightArrow">
            <a:avLst>
              <a:gd name="adj1" fmla="val 50000"/>
              <a:gd name="adj2" fmla="val 34398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12200" y="2514600"/>
            <a:ext cx="104292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615080" y="3352680"/>
            <a:ext cx="104328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AN, Fiber op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ternet,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TML, 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623000" y="4114800"/>
            <a:ext cx="1043280" cy="647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irele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G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618320" y="4876920"/>
            <a:ext cx="10429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ternal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xte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9320" y="2514600"/>
            <a:ext cx="1042920" cy="647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320" y="3352680"/>
            <a:ext cx="1042920" cy="648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ch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9320" y="4114800"/>
            <a:ext cx="1042920" cy="647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me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ch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9320" y="4876920"/>
            <a:ext cx="1042920" cy="609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9320" y="1523880"/>
            <a:ext cx="1042920" cy="762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ycle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Towards integra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228600" y="1676520"/>
            <a:ext cx="5351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layer comes on top, previous layers never disappear !!!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See millenium b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666880" y="3276720"/>
            <a:ext cx="11422800" cy="2730240"/>
            <a:chOff x="2666880" y="3276720"/>
            <a:chExt cx="11422800" cy="2730240"/>
          </a:xfrm>
        </p:grpSpPr>
        <p:sp>
          <p:nvSpPr>
            <p:cNvPr id="458" name=""/>
            <p:cNvSpPr/>
            <p:nvPr/>
          </p:nvSpPr>
          <p:spPr>
            <a:xfrm>
              <a:off x="2666880" y="5181480"/>
              <a:ext cx="830520" cy="825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919191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70'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69440" y="3284640"/>
              <a:ext cx="14529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Mainframes</a:t>
              </a:r>
              <a:br>
                <a:rPr sz="1800"/>
              </a:b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Cobol 370</a:t>
              </a:r>
              <a:br>
                <a:rPr sz="1800"/>
              </a:b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CICS et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966400" y="3276720"/>
              <a:ext cx="1112328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" y="10377"/>
                  </a:moveTo>
                  <a:arcTo wR="10800" hR="10800" stAng="-10665179" swAng="5261255"/>
                  <a:lnTo>
                    <a:pt x="10800" y="10800"/>
                  </a:lnTo>
                  <a:close/>
                </a:path>
                <a:path fill="none" w="21600" h="21600">
                  <a:moveTo>
                    <a:pt x="8" y="10377"/>
                  </a:moveTo>
                  <a:arcTo wR="10800" hR="10800" stAng="-10665179" swAng="5261255"/>
                </a:path>
              </a:pathLst>
            </a:custGeom>
            <a:noFill/>
            <a:ln cap="rnd"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4226040" y="2444760"/>
            <a:ext cx="8429040" cy="3568680"/>
            <a:chOff x="4226040" y="2444760"/>
            <a:chExt cx="8429040" cy="3568680"/>
          </a:xfrm>
        </p:grpSpPr>
        <p:sp>
          <p:nvSpPr>
            <p:cNvPr id="462" name=""/>
            <p:cNvSpPr/>
            <p:nvPr/>
          </p:nvSpPr>
          <p:spPr>
            <a:xfrm>
              <a:off x="4226040" y="5187960"/>
              <a:ext cx="812520" cy="825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919191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80'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257880" y="2590920"/>
              <a:ext cx="2819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33"/>
                  </a:solidFill>
                  <a:latin typeface="Arial"/>
                </a:rPr>
                <a:t>Minis &amp; department's I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33"/>
                  </a:solidFill>
                  <a:latin typeface="Arial"/>
                </a:rPr>
                <a:t>(VAR Digital, HP, D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78480" y="2444760"/>
              <a:ext cx="80766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571" swAng="5382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571" swAng="5382517"/>
                </a:path>
              </a:pathLst>
            </a:custGeom>
            <a:noFill/>
            <a:ln cap="rnd"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773680" y="1530360"/>
            <a:ext cx="5814720" cy="4489560"/>
            <a:chOff x="5773680" y="1530360"/>
            <a:chExt cx="5814720" cy="4489560"/>
          </a:xfrm>
        </p:grpSpPr>
        <p:sp>
          <p:nvSpPr>
            <p:cNvPr id="466" name=""/>
            <p:cNvSpPr/>
            <p:nvPr/>
          </p:nvSpPr>
          <p:spPr>
            <a:xfrm>
              <a:off x="5773680" y="5194440"/>
              <a:ext cx="831960" cy="825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919191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90'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21680" y="5194440"/>
              <a:ext cx="1042920" cy="825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919191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2000'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58120" y="1752480"/>
              <a:ext cx="2406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33"/>
                  </a:solidFill>
                  <a:latin typeface="Arial"/>
                </a:rPr>
                <a:t>Micros</a:t>
              </a:r>
              <a:br>
                <a:rPr sz="1800"/>
              </a:br>
              <a:r>
                <a:rPr b="1" lang="en-US" sz="1800" spc="-1" strike="noStrike">
                  <a:solidFill>
                    <a:srgbClr val="ff0033"/>
                  </a:solidFill>
                  <a:latin typeface="Arial"/>
                </a:rPr>
                <a:t>( Client/Server, ER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02360" y="1530360"/>
              <a:ext cx="5486040" cy="22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5"/>
                  </a:moveTo>
                  <a:arcTo wR="10800" hR="10800" stAng="-10785677" swAng="53816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5"/>
                  </a:moveTo>
                  <a:arcTo wR="10800" hR="10800" stAng="-10785677" swAng="5381698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1131840" y="4121280"/>
            <a:ext cx="14266800" cy="2133000"/>
            <a:chOff x="1131840" y="4121280"/>
            <a:chExt cx="14266800" cy="2133000"/>
          </a:xfrm>
        </p:grpSpPr>
        <p:sp>
          <p:nvSpPr>
            <p:cNvPr id="471" name=""/>
            <p:cNvSpPr/>
            <p:nvPr/>
          </p:nvSpPr>
          <p:spPr>
            <a:xfrm>
              <a:off x="1131840" y="5187960"/>
              <a:ext cx="820800" cy="825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919191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60'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00960" y="4471920"/>
              <a:ext cx="1948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618ffd"/>
                  </a:solidFill>
                  <a:latin typeface="Arial"/>
                </a:rPr>
                <a:t>Assembler &amp; 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30360" y="4121280"/>
              <a:ext cx="13868280" cy="21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2"/>
                  </a:moveTo>
                  <a:arcTo wR="10800" hR="10800" stAng="-10784653" swAng="536576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2"/>
                  </a:moveTo>
                  <a:arcTo wR="10800" hR="10800" stAng="-10784653" swAng="5365765"/>
                </a:path>
              </a:pathLst>
            </a:custGeom>
            <a:noFill/>
            <a:ln cap="rnd" w="507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onsequences for you :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76000" y="155736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xt 2/3 years (-&gt; 2009/10 ?) IT market conditions are favorable 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a scarce resourc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ew weeks to get a (first)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t job salary still ri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hen, you have +/- 10 years (i.e. 2 or 3 professional cycles) to acquire or develop 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ther skills than IT technical ski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alents / Knowledge / Competenc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647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onsequences for you (2) :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76000" y="155736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I strongly recommend that you take very seriously this opportunity to avoid professional obsolescenc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Examples of possible enrichments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Reporting, Budgeting, cost contro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Switch from 100% IT jobs to other line or staff fun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Questions ?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« Islands » of automa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4797360"/>
            <a:ext cx="1297080" cy="1079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1557360"/>
            <a:ext cx="1584360" cy="1079640"/>
          </a:xfrm>
          <a:prstGeom prst="ellipse">
            <a:avLst/>
          </a:prstGeom>
          <a:solidFill>
            <a:srgbClr val="1d13eb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3789360"/>
            <a:ext cx="1297080" cy="1079640"/>
          </a:xfrm>
          <a:prstGeom prst="ellipse">
            <a:avLst/>
          </a:prstGeom>
          <a:solidFill>
            <a:srgbClr val="00ae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2709720"/>
            <a:ext cx="1296720" cy="10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2565360"/>
            <a:ext cx="1297080" cy="1079640"/>
          </a:xfrm>
          <a:prstGeom prst="ellipse">
            <a:avLst/>
          </a:prstGeom>
          <a:solidFill>
            <a:srgbClr val="1d1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4078440"/>
            <a:ext cx="1297080" cy="1079280"/>
          </a:xfrm>
          <a:prstGeom prst="ellipse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2080" y="5157720"/>
            <a:ext cx="125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ou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43080" y="3070080"/>
            <a:ext cx="79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t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2280" y="4419720"/>
            <a:ext cx="773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37280" y="4149720"/>
            <a:ext cx="61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56360" y="2854440"/>
            <a:ext cx="1070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05160" y="1828800"/>
            <a:ext cx="2054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ign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4365720"/>
            <a:ext cx="1297080" cy="10792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69000" y="4797360"/>
            <a:ext cx="83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y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5950080"/>
            <a:ext cx="799308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07840" y="54658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1752480"/>
            <a:ext cx="1297080" cy="1079640"/>
          </a:xfrm>
          <a:prstGeom prst="ellipse">
            <a:avLst/>
          </a:prstGeom>
          <a:solidFill>
            <a:srgbClr val="1d1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86520" y="2133720"/>
            <a:ext cx="1215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Historical layer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76520"/>
            <a:ext cx="5351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layer comes on top, previous layers never disappear !!!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See millenium b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666880" y="3276720"/>
            <a:ext cx="11422800" cy="2730240"/>
            <a:chOff x="2666880" y="3276720"/>
            <a:chExt cx="11422800" cy="2730240"/>
          </a:xfrm>
        </p:grpSpPr>
        <p:sp>
          <p:nvSpPr>
            <p:cNvPr id="117" name=""/>
            <p:cNvSpPr/>
            <p:nvPr/>
          </p:nvSpPr>
          <p:spPr>
            <a:xfrm>
              <a:off x="2666880" y="5181480"/>
              <a:ext cx="830520" cy="825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919191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70'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69440" y="3284640"/>
              <a:ext cx="14529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Mainframes</a:t>
              </a:r>
              <a:br>
                <a:rPr sz="1800"/>
              </a:b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Cobol 370</a:t>
              </a:r>
              <a:br>
                <a:rPr sz="1800"/>
              </a:b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CICS et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66400" y="3276720"/>
              <a:ext cx="1112328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" y="10377"/>
                  </a:moveTo>
                  <a:arcTo wR="10800" hR="10800" stAng="-10665179" swAng="5261255"/>
                  <a:lnTo>
                    <a:pt x="10800" y="10800"/>
                  </a:lnTo>
                  <a:close/>
                </a:path>
                <a:path fill="none" w="21600" h="21600">
                  <a:moveTo>
                    <a:pt x="8" y="10377"/>
                  </a:moveTo>
                  <a:arcTo wR="10800" hR="10800" stAng="-10665179" swAng="5261255"/>
                </a:path>
              </a:pathLst>
            </a:custGeom>
            <a:noFill/>
            <a:ln cap="rnd"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226040" y="2444760"/>
            <a:ext cx="8429040" cy="3568680"/>
            <a:chOff x="4226040" y="2444760"/>
            <a:chExt cx="8429040" cy="3568680"/>
          </a:xfrm>
        </p:grpSpPr>
        <p:sp>
          <p:nvSpPr>
            <p:cNvPr id="121" name=""/>
            <p:cNvSpPr/>
            <p:nvPr/>
          </p:nvSpPr>
          <p:spPr>
            <a:xfrm>
              <a:off x="4226040" y="5187960"/>
              <a:ext cx="812520" cy="825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919191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80'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57880" y="2590920"/>
              <a:ext cx="2819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33"/>
                  </a:solidFill>
                  <a:latin typeface="Arial"/>
                </a:rPr>
                <a:t>Minis &amp; department's I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33"/>
                  </a:solidFill>
                  <a:latin typeface="Arial"/>
                </a:rPr>
                <a:t>(VAR Digital, HP, D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8480" y="2444760"/>
              <a:ext cx="80766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571" swAng="5382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571" swAng="5382517"/>
                </a:path>
              </a:pathLst>
            </a:custGeom>
            <a:noFill/>
            <a:ln cap="rnd"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73680" y="1530360"/>
            <a:ext cx="5814720" cy="4489560"/>
            <a:chOff x="5773680" y="1530360"/>
            <a:chExt cx="5814720" cy="4489560"/>
          </a:xfrm>
        </p:grpSpPr>
        <p:sp>
          <p:nvSpPr>
            <p:cNvPr id="125" name=""/>
            <p:cNvSpPr/>
            <p:nvPr/>
          </p:nvSpPr>
          <p:spPr>
            <a:xfrm>
              <a:off x="5773680" y="5194440"/>
              <a:ext cx="831960" cy="825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919191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90'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21680" y="5194440"/>
              <a:ext cx="1042920" cy="825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919191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2000'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8120" y="1752480"/>
              <a:ext cx="2406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33"/>
                  </a:solidFill>
                  <a:latin typeface="Arial"/>
                </a:rPr>
                <a:t>Micros</a:t>
              </a:r>
              <a:br>
                <a:rPr sz="1800"/>
              </a:br>
              <a:r>
                <a:rPr b="1" lang="en-US" sz="1800" spc="-1" strike="noStrike">
                  <a:solidFill>
                    <a:srgbClr val="ff0033"/>
                  </a:solidFill>
                  <a:latin typeface="Arial"/>
                </a:rPr>
                <a:t>( Client/Server, ER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02360" y="1530360"/>
              <a:ext cx="5486040" cy="22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5"/>
                  </a:moveTo>
                  <a:arcTo wR="10800" hR="10800" stAng="-10785677" swAng="53816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5"/>
                  </a:moveTo>
                  <a:arcTo wR="10800" hR="10800" stAng="-10785677" swAng="5381698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131840" y="4121280"/>
            <a:ext cx="14266800" cy="2133000"/>
            <a:chOff x="1131840" y="4121280"/>
            <a:chExt cx="14266800" cy="2133000"/>
          </a:xfrm>
        </p:grpSpPr>
        <p:sp>
          <p:nvSpPr>
            <p:cNvPr id="130" name=""/>
            <p:cNvSpPr/>
            <p:nvPr/>
          </p:nvSpPr>
          <p:spPr>
            <a:xfrm>
              <a:off x="1131840" y="5187960"/>
              <a:ext cx="820800" cy="825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919191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60'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00960" y="4471920"/>
              <a:ext cx="1948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618ffd"/>
                  </a:solidFill>
                  <a:latin typeface="Arial"/>
                </a:rPr>
                <a:t>Assembler &amp; 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30360" y="4121280"/>
              <a:ext cx="13868280" cy="21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2"/>
                  </a:moveTo>
                  <a:arcTo wR="10800" hR="10800" stAng="-10784653" swAng="536576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2"/>
                  </a:moveTo>
                  <a:arcTo wR="10800" hR="10800" stAng="-10784653" swAng="5365765"/>
                </a:path>
              </a:pathLst>
            </a:custGeom>
            <a:noFill/>
            <a:ln cap="rnd" w="507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73200" y="-360"/>
            <a:ext cx="636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Digital Time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57200" y="3276720"/>
            <a:ext cx="14942160" cy="3825000"/>
            <a:chOff x="457200" y="3276720"/>
            <a:chExt cx="14942160" cy="3825000"/>
          </a:xfrm>
        </p:grpSpPr>
        <p:sp>
          <p:nvSpPr>
            <p:cNvPr id="135" name=""/>
            <p:cNvSpPr/>
            <p:nvPr/>
          </p:nvSpPr>
          <p:spPr>
            <a:xfrm>
              <a:off x="457200" y="5168880"/>
              <a:ext cx="7918560" cy="16524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60160" y="4419720"/>
              <a:ext cx="1809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18ffd"/>
                  </a:solidFill>
                  <a:latin typeface="Arial"/>
                </a:rPr>
                <a:t>Industrial E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30360" y="3276720"/>
              <a:ext cx="13869000" cy="38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2"/>
                  </a:moveTo>
                  <a:arcTo wR="10800" hR="10800" stAng="-10784653" swAng="5386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2"/>
                  </a:moveTo>
                  <a:arcTo wR="10800" hR="10800" stAng="-10784653" swAng="5386790"/>
                </a:path>
              </a:pathLst>
            </a:custGeom>
            <a:noFill/>
            <a:ln cap="rnd" w="507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6600" y="5410080"/>
              <a:ext cx="1527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618ffd"/>
                  </a:solidFill>
                  <a:latin typeface="Tahoma"/>
                </a:rPr>
                <a:t>Napoléon 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618ffd"/>
                  </a:solidFill>
                  <a:latin typeface="Tahoma"/>
                </a:rPr>
                <a:t>Railwa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400800" y="2590920"/>
            <a:ext cx="4267080" cy="3460320"/>
            <a:chOff x="6400800" y="2590920"/>
            <a:chExt cx="4267080" cy="3460320"/>
          </a:xfrm>
        </p:grpSpPr>
        <p:sp>
          <p:nvSpPr>
            <p:cNvPr id="140" name=""/>
            <p:cNvSpPr/>
            <p:nvPr/>
          </p:nvSpPr>
          <p:spPr>
            <a:xfrm>
              <a:off x="7008840" y="2833560"/>
              <a:ext cx="1510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33"/>
                  </a:solidFill>
                  <a:latin typeface="Tahoma"/>
                </a:rPr>
                <a:t>Digital E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00800" y="2590920"/>
              <a:ext cx="4267080" cy="15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5"/>
                  </a:moveTo>
                  <a:arcTo wR="10800" hR="10800" stAng="-10785677" swAng="53816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5"/>
                  </a:moveTo>
                  <a:arcTo wR="10800" hR="10800" stAng="-10785677" swAng="5381698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68840" y="5410080"/>
              <a:ext cx="1064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33"/>
                  </a:solidFill>
                  <a:latin typeface="Tahoma"/>
                </a:rPr>
                <a:t>Chir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33"/>
                  </a:solidFill>
                  <a:latin typeface="Tahoma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724280" y="3657600"/>
            <a:ext cx="388008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Tahoma"/>
              </a:rPr>
              <a:t>Mass production, « Pushed »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Tahoma"/>
              </a:rPr>
              <a:t>Raw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Tahoma"/>
              </a:rPr>
              <a:t>Heavy « tangible » investments  Taylorism/Marx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752480"/>
            <a:ext cx="34290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Networked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Pulled flows « On demand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Fast and 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Im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451240" y="544032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ndustrial times IT challenge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2451240" y="2239920"/>
            <a:ext cx="1600200" cy="533520"/>
          </a:xfrm>
          <a:prstGeom prst="rect">
            <a:avLst/>
          </a:prstGeom>
          <a:solidFill>
            <a:srgbClr val="1d13eb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51240" y="2773440"/>
            <a:ext cx="1600200" cy="533160"/>
          </a:xfrm>
          <a:prstGeom prst="rect">
            <a:avLst/>
          </a:prstGeom>
          <a:solidFill>
            <a:srgbClr val="00ae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51240" y="3306600"/>
            <a:ext cx="1600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51240" y="3840120"/>
            <a:ext cx="1600200" cy="533520"/>
          </a:xfrm>
          <a:prstGeom prst="rect">
            <a:avLst/>
          </a:prstGeom>
          <a:solidFill>
            <a:srgbClr val="1d1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51240" y="4373640"/>
            <a:ext cx="1600200" cy="53316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51240" y="490680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4760" y="2276640"/>
            <a:ext cx="207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ign/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97200" y="3390840"/>
            <a:ext cx="100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Log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75520" y="3933720"/>
            <a:ext cx="1251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Purcha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64240" y="4486320"/>
            <a:ext cx="67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2200" y="558648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18280" y="5052960"/>
            <a:ext cx="1369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Mktg-Co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2209680"/>
            <a:ext cx="0" cy="3733920"/>
          </a:xfrm>
          <a:prstGeom prst="line">
            <a:avLst/>
          </a:prstGeom>
          <a:ln w="38160">
            <a:solidFill>
              <a:srgbClr val="618ffd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262320"/>
            <a:ext cx="17524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roblem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=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2590920"/>
            <a:ext cx="30038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Tahoma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Tahoma"/>
              </a:rPr>
              <a:t>"re-foundation"</a:t>
            </a:r>
            <a:br>
              <a:rPr sz="3200"/>
            </a:br>
            <a:r>
              <a:rPr b="0" lang="en-US" sz="3200" spc="-1" strike="noStrike">
                <a:solidFill>
                  <a:srgbClr val="618ffd"/>
                </a:solidFill>
                <a:latin typeface="Tahoma"/>
              </a:rPr>
              <a:t>= </a:t>
            </a:r>
            <a:br>
              <a:rPr sz="3200"/>
            </a:br>
            <a:r>
              <a:rPr b="0" lang="en-US" sz="3200" spc="-1" strike="noStrike">
                <a:solidFill>
                  <a:srgbClr val="618ffd"/>
                </a:solidFill>
                <a:latin typeface="Tahoma"/>
              </a:rPr>
              <a:t>E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64760" y="2276640"/>
            <a:ext cx="207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ign/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2360" y="2852640"/>
            <a:ext cx="159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Manufactu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971800" y="2362320"/>
            <a:ext cx="0" cy="3733560"/>
          </a:xfrm>
          <a:prstGeom prst="line">
            <a:avLst/>
          </a:prstGeom>
          <a:ln w="38160">
            <a:solidFill>
              <a:srgbClr val="618ffd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08200" y="2448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971800"/>
            <a:ext cx="1752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34040" y="1965240"/>
            <a:ext cx="15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pany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igital times IT system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029200" y="2038320"/>
            <a:ext cx="1638360" cy="4199040"/>
            <a:chOff x="5029200" y="2038320"/>
            <a:chExt cx="1638360" cy="4199040"/>
          </a:xfrm>
        </p:grpSpPr>
        <p:sp>
          <p:nvSpPr>
            <p:cNvPr id="170" name=""/>
            <p:cNvSpPr/>
            <p:nvPr/>
          </p:nvSpPr>
          <p:spPr>
            <a:xfrm>
              <a:off x="5143680" y="2656080"/>
              <a:ext cx="1447560" cy="0"/>
            </a:xfrm>
            <a:prstGeom prst="line">
              <a:avLst/>
            </a:prstGeom>
            <a:ln w="19080">
              <a:solidFill>
                <a:srgbClr val="1d13e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29200" y="3189240"/>
              <a:ext cx="1447920" cy="0"/>
            </a:xfrm>
            <a:prstGeom prst="line">
              <a:avLst/>
            </a:prstGeom>
            <a:ln w="19080">
              <a:solidFill>
                <a:srgbClr val="00ae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29200" y="3722760"/>
              <a:ext cx="144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29200" y="4256280"/>
              <a:ext cx="144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29200" y="4789440"/>
              <a:ext cx="144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05520" y="5246640"/>
              <a:ext cx="144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05520" y="5780160"/>
              <a:ext cx="144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67360" y="2732040"/>
              <a:ext cx="1600200" cy="381240"/>
            </a:xfrm>
            <a:prstGeom prst="line">
              <a:avLst/>
            </a:prstGeom>
            <a:ln w="19080">
              <a:solidFill>
                <a:srgbClr val="1d13e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67360" y="2808360"/>
              <a:ext cx="1600200" cy="685800"/>
            </a:xfrm>
            <a:prstGeom prst="line">
              <a:avLst/>
            </a:prstGeom>
            <a:ln w="19080">
              <a:solidFill>
                <a:srgbClr val="1d13e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05520" y="2884680"/>
              <a:ext cx="1523880" cy="1295280"/>
            </a:xfrm>
            <a:prstGeom prst="line">
              <a:avLst/>
            </a:prstGeom>
            <a:ln w="19080">
              <a:solidFill>
                <a:srgbClr val="1d13e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05520" y="2046240"/>
              <a:ext cx="1371600" cy="4191120"/>
            </a:xfrm>
            <a:prstGeom prst="ellipse">
              <a:avLst/>
            </a:prstGeom>
            <a:noFill/>
            <a:ln w="25560">
              <a:solidFill>
                <a:srgbClr val="618ff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79760" y="2038320"/>
              <a:ext cx="1021680" cy="458280"/>
            </a:xfrm>
            <a:prstGeom prst="rect">
              <a:avLst/>
            </a:prstGeom>
            <a:noFill/>
            <a:ln w="93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618ffd"/>
                  </a:solidFill>
                  <a:latin typeface="Tahoma"/>
                </a:rPr>
                <a:t>xx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971800" y="1219320"/>
            <a:ext cx="5543280" cy="4876200"/>
            <a:chOff x="2971800" y="1219320"/>
            <a:chExt cx="5543280" cy="4876200"/>
          </a:xfrm>
        </p:grpSpPr>
        <p:sp>
          <p:nvSpPr>
            <p:cNvPr id="183" name=""/>
            <p:cNvSpPr/>
            <p:nvPr/>
          </p:nvSpPr>
          <p:spPr>
            <a:xfrm>
              <a:off x="3809880" y="1904760"/>
              <a:ext cx="3733920" cy="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58000" y="5562360"/>
              <a:ext cx="1600200" cy="53316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58000" y="2361960"/>
              <a:ext cx="1600200" cy="533160"/>
            </a:xfrm>
            <a:prstGeom prst="rect">
              <a:avLst/>
            </a:prstGeom>
            <a:solidFill>
              <a:srgbClr val="1d13e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0" y="2895480"/>
              <a:ext cx="1600200" cy="533160"/>
            </a:xfrm>
            <a:prstGeom prst="rect">
              <a:avLst/>
            </a:prstGeom>
            <a:solidFill>
              <a:srgbClr val="00ae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58000" y="3429000"/>
              <a:ext cx="1600200" cy="532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3962160"/>
              <a:ext cx="1600200" cy="533160"/>
            </a:xfrm>
            <a:prstGeom prst="rect">
              <a:avLst/>
            </a:prstGeom>
            <a:solidFill>
              <a:srgbClr val="1d13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58000" y="4495680"/>
              <a:ext cx="1600200" cy="53316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8000" y="5029200"/>
              <a:ext cx="1600200" cy="53280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33320" y="2417760"/>
              <a:ext cx="1268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cep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42320" y="2965320"/>
              <a:ext cx="1248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abr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69680" y="3512880"/>
              <a:ext cx="1177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st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42480" y="4060800"/>
              <a:ext cx="822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ha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43560" y="4608360"/>
              <a:ext cx="831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14040" y="5708520"/>
              <a:ext cx="91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39440" y="5175000"/>
              <a:ext cx="1369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ahoma"/>
                </a:rPr>
                <a:t>Mktg-Co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71800" y="1219320"/>
              <a:ext cx="525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ed for external integ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62760" y="198108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Company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191040" y="555948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91040" y="2359080"/>
            <a:ext cx="1600200" cy="533520"/>
          </a:xfrm>
          <a:prstGeom prst="rect">
            <a:avLst/>
          </a:prstGeom>
          <a:solidFill>
            <a:srgbClr val="1d13eb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91040" y="2892600"/>
            <a:ext cx="1600200" cy="533160"/>
          </a:xfrm>
          <a:prstGeom prst="rect">
            <a:avLst/>
          </a:prstGeom>
          <a:solidFill>
            <a:srgbClr val="00ae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91040" y="3425760"/>
            <a:ext cx="1600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91040" y="3959280"/>
            <a:ext cx="1600200" cy="533520"/>
          </a:xfrm>
          <a:prstGeom prst="rect">
            <a:avLst/>
          </a:prstGeom>
          <a:solidFill>
            <a:srgbClr val="1d1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91040" y="4492800"/>
            <a:ext cx="1600200" cy="53316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91040" y="502596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04560" y="2395440"/>
            <a:ext cx="207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ign/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37000" y="3510000"/>
            <a:ext cx="100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Log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15320" y="4052880"/>
            <a:ext cx="1251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Purcha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04040" y="4605480"/>
            <a:ext cx="67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82000" y="57056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58080" y="5172120"/>
            <a:ext cx="1369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Mktg-Co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04560" y="2395440"/>
            <a:ext cx="207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ign/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2160" y="2971800"/>
            <a:ext cx="159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Manufactu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Valeur ajoutée IT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1611360"/>
            <a:ext cx="74674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Questions ?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0:26:09Z</dcterms:created>
  <dc:creator>Consultant</dc:creator>
  <dc:description/>
  <dc:language>en-US</dc:language>
  <cp:lastModifiedBy>Consultant</cp:lastModifiedBy>
  <dcterms:modified xsi:type="dcterms:W3CDTF">2007-10-09T06:51:21Z</dcterms:modified>
  <cp:revision>8</cp:revision>
  <dc:subject/>
  <dc:title>EPITA  Modèles Economiques des Marchés de L'informatique</dc:title>
</cp:coreProperties>
</file>