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63280" y="739440"/>
            <a:ext cx="49338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2764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2"/>
          </p:nvPr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3"/>
          </p:nvPr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5980-DBC9-454E-BF7E-74963E775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7D0-B052-4C52-8BE4-400603F9E1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A1F2-082E-4087-8EAE-822FD4194D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73000" y="74772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AB6-AB55-4D6D-B4CB-11D4FAD8E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6184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0C65-D2D6-4362-A916-F1602B5E1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6184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29D-F801-46BC-BE4D-1AACBAD7D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6184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E300-E274-4262-934A-A0A4963C30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6184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6664-7115-4861-9E73-D481D6E14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61840" y="739800"/>
            <a:ext cx="4937400" cy="37018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6B79-D660-4A4B-BE81-5C4B5CC4A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3D4-615D-4FC9-BBB2-542DE0699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79EB-7F01-49DF-9D96-0800998313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778-142C-4D15-888D-A260250C50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157-1744-411B-9502-3E62DE9C6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7731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916D-66E3-45B4-B871-24CABFB784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937548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773160" y="-360"/>
            <a:ext cx="2886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65080" y="743040"/>
            <a:ext cx="4930920" cy="3697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89000"/>
            <a:ext cx="488628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87400" y="6586560"/>
            <a:ext cx="1327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age </a:t>
            </a:r>
            <a:fld id="{95EB5778-E975-4A8A-9F83-7D8F557011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550320" y="6477120"/>
            <a:ext cx="2375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87040" y="6491160"/>
            <a:ext cx="14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A13-F523-41DA-ABAD-4EABFCDF5BDD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90160" y="6308640"/>
            <a:ext cx="325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Tahoma"/>
              </a:rPr>
              <a:t>Jean-Noël Gorge, oct 2nd 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0920" y="6165720"/>
            <a:ext cx="8651880" cy="1908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895520" y="630396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7C6E-421C-4C29-A64E-68E26A8C55B0}" type="slidenum">
              <a:rPr b="1" lang="en-US" sz="1600" spc="-1" strike="noStrike">
                <a:solidFill>
                  <a:srgbClr val="000099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68F2C19-688B-47B5-A6FC-2BB2942CC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F1A1-7C82-4139-95F1-21532252ED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11520" y="6324480"/>
            <a:ext cx="320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Garamond"/>
              </a:rPr>
              <a:t>Jean-Noël Gorge, oct 2nd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6165720"/>
            <a:ext cx="8723520" cy="1908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D1FC-89F4-48A9-8062-1EE96474D5FA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ahoma"/>
              </a:rPr>
              <a:t>EPITA</a:t>
            </a:r>
            <a:br>
              <a:rPr sz="3600"/>
            </a:br>
            <a:br>
              <a:rPr sz="36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T Market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ic Business and Marketing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19191"/>
                </a:solidFill>
                <a:latin typeface="Tahoma"/>
              </a:rPr>
              <a:t>lecture #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19191"/>
                </a:solidFill>
                <a:latin typeface="Tahoma"/>
              </a:rPr>
              <a:t>Oct 2nd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or a corporation, a small business, or a public agency, why spend money in IT ?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Once upon a time…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applications and busines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 large scale applications : 50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GE Louisville (USA) 1954 : hourly wag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ed by waves, enabled by technolo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10 – 12 years cycl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For early adopters : 4th ou 5th systems generation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, widespread usage,  SOHO inclu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« Islands » of autom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1297080" cy="107964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1557360"/>
            <a:ext cx="1584360" cy="1079640"/>
          </a:xfrm>
          <a:prstGeom prst="ellipse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3789360"/>
            <a:ext cx="1297080" cy="1079640"/>
          </a:xfrm>
          <a:prstGeom prst="ellipse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709720"/>
            <a:ext cx="1296720" cy="10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2565360"/>
            <a:ext cx="1297080" cy="1079640"/>
          </a:xfrm>
          <a:prstGeom prst="ellipse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4078440"/>
            <a:ext cx="1297080" cy="107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080" y="5157720"/>
            <a:ext cx="125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ou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3080" y="3070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t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2280" y="4419720"/>
            <a:ext cx="773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7280" y="41497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2854440"/>
            <a:ext cx="1070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160" y="1828800"/>
            <a:ext cx="205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365720"/>
            <a:ext cx="1297080" cy="107928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8760" y="4797360"/>
            <a:ext cx="82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950080"/>
            <a:ext cx="79930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7840" y="54658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752480"/>
            <a:ext cx="1297080" cy="1079640"/>
          </a:xfrm>
          <a:prstGeom prst="ellipse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86520" y="2133720"/>
            <a:ext cx="121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« Islands » of automa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ious drawbac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Data duplication, several incompatible format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Functionally disjointed Application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Heterogeneity : technical platforms, ergonomics etc.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Maintenance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User’s satisfaction 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Historical laye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676520"/>
            <a:ext cx="5351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ayer comes on top, previous layers never disappear !!!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e millenium b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666880" y="3276720"/>
            <a:ext cx="11422800" cy="2730240"/>
            <a:chOff x="2666880" y="3276720"/>
            <a:chExt cx="11422800" cy="2730240"/>
          </a:xfrm>
        </p:grpSpPr>
        <p:sp>
          <p:nvSpPr>
            <p:cNvPr id="150" name=""/>
            <p:cNvSpPr/>
            <p:nvPr/>
          </p:nvSpPr>
          <p:spPr>
            <a:xfrm>
              <a:off x="2666880" y="5181480"/>
              <a:ext cx="830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7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69440" y="3284640"/>
              <a:ext cx="14529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Mainframes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obol 370</a:t>
              </a:r>
              <a:br>
                <a:rPr sz="1800"/>
              </a:br>
              <a:r>
                <a:rPr b="1" lang="fr-FR" sz="1800" spc="-1" strike="noStrike">
                  <a:solidFill>
                    <a:srgbClr val="33cc33"/>
                  </a:solidFill>
                  <a:latin typeface="Arial"/>
                </a:rPr>
                <a:t>CICS e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6400" y="3276720"/>
              <a:ext cx="1112328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77"/>
                  </a:moveTo>
                  <a:arcTo wR="10800" hR="10800" stAng="-10665179" swAng="5261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77"/>
                  </a:moveTo>
                  <a:arcTo wR="10800" hR="10800" stAng="-10665179" swAng="5261255"/>
                </a:path>
              </a:pathLst>
            </a:custGeom>
            <a:noFill/>
            <a:ln cap="rnd"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226040" y="2444760"/>
            <a:ext cx="8429040" cy="3568680"/>
            <a:chOff x="4226040" y="2444760"/>
            <a:chExt cx="8429040" cy="3568680"/>
          </a:xfrm>
        </p:grpSpPr>
        <p:sp>
          <p:nvSpPr>
            <p:cNvPr id="154" name=""/>
            <p:cNvSpPr/>
            <p:nvPr/>
          </p:nvSpPr>
          <p:spPr>
            <a:xfrm>
              <a:off x="4226040" y="5187960"/>
              <a:ext cx="8125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8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7880" y="2590920"/>
              <a:ext cx="2819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Minis &amp; department's I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(VAR Digital, HP, D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8480" y="2444760"/>
              <a:ext cx="80766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8"/>
                  </a:moveTo>
                  <a:arcTo wR="10800" hR="10800" stAng="-10786571" swAng="5382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8"/>
                  </a:moveTo>
                  <a:arcTo wR="10800" hR="10800" stAng="-10786571" swAng="5382517"/>
                </a:path>
              </a:pathLst>
            </a:custGeom>
            <a:noFill/>
            <a:ln cap="rnd"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73680" y="1530360"/>
            <a:ext cx="5814720" cy="4489560"/>
            <a:chOff x="5773680" y="1530360"/>
            <a:chExt cx="5814720" cy="4489560"/>
          </a:xfrm>
        </p:grpSpPr>
        <p:sp>
          <p:nvSpPr>
            <p:cNvPr id="158" name=""/>
            <p:cNvSpPr/>
            <p:nvPr/>
          </p:nvSpPr>
          <p:spPr>
            <a:xfrm>
              <a:off x="5773680" y="5194440"/>
              <a:ext cx="83196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9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21680" y="5194440"/>
              <a:ext cx="104292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200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8120" y="1752480"/>
              <a:ext cx="2406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Micros</a:t>
              </a:r>
              <a:br>
                <a:rPr sz="1800"/>
              </a:br>
              <a:r>
                <a:rPr b="1" lang="en-US" sz="1800" spc="-1" strike="noStrike">
                  <a:solidFill>
                    <a:srgbClr val="ff0033"/>
                  </a:solidFill>
                  <a:latin typeface="Arial"/>
                </a:rPr>
                <a:t>( Client/Server, ER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2360" y="1530360"/>
              <a:ext cx="5486040" cy="22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31840" y="4121280"/>
            <a:ext cx="14266800" cy="2133000"/>
            <a:chOff x="1131840" y="4121280"/>
            <a:chExt cx="14266800" cy="2133000"/>
          </a:xfrm>
        </p:grpSpPr>
        <p:sp>
          <p:nvSpPr>
            <p:cNvPr id="163" name=""/>
            <p:cNvSpPr/>
            <p:nvPr/>
          </p:nvSpPr>
          <p:spPr>
            <a:xfrm>
              <a:off x="1131840" y="5187960"/>
              <a:ext cx="820800" cy="825480"/>
            </a:xfrm>
            <a:prstGeom prst="rect">
              <a:avLst/>
            </a:prstGeom>
            <a:gradFill rotWithShape="0">
              <a:gsLst>
                <a:gs pos="0">
                  <a:srgbClr val="b1b1b1"/>
                </a:gs>
                <a:gs pos="50000">
                  <a:srgbClr val="919191"/>
                </a:gs>
                <a:gs pos="100000">
                  <a:srgbClr val="b1b1b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neva"/>
                </a:rPr>
                <a:t>60'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0960" y="4471920"/>
              <a:ext cx="194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18ffd"/>
                  </a:solidFill>
                  <a:latin typeface="Arial"/>
                </a:rPr>
                <a:t>Assembler &amp; 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30360" y="4121280"/>
              <a:ext cx="13868280" cy="213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6576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65765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73200" y="-360"/>
            <a:ext cx="636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dustrial Tim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3276720"/>
            <a:ext cx="14942160" cy="3825000"/>
            <a:chOff x="533520" y="3276720"/>
            <a:chExt cx="14942160" cy="3825000"/>
          </a:xfrm>
        </p:grpSpPr>
        <p:sp>
          <p:nvSpPr>
            <p:cNvPr id="168" name=""/>
            <p:cNvSpPr/>
            <p:nvPr/>
          </p:nvSpPr>
          <p:spPr>
            <a:xfrm>
              <a:off x="533520" y="5168880"/>
              <a:ext cx="7918560" cy="1652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7560" y="4419720"/>
              <a:ext cx="1513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18ffd"/>
                  </a:solidFill>
                  <a:latin typeface="Arial"/>
                </a:rPr>
                <a:t>Industrial</a:t>
              </a:r>
              <a:br>
                <a:rPr sz="2000"/>
              </a:br>
              <a:r>
                <a:rPr b="1" lang="en-US" sz="2000" spc="-1" strike="noStrike">
                  <a:solidFill>
                    <a:srgbClr val="618ffd"/>
                  </a:solidFill>
                  <a:latin typeface="Arial"/>
                </a:rPr>
                <a:t> expan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6680" y="3276720"/>
              <a:ext cx="13869000" cy="38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86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86790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2920" y="5410080"/>
              <a:ext cx="1527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18ffd"/>
                  </a:solidFill>
                  <a:latin typeface="Tahoma"/>
                </a:rPr>
                <a:t>Napoléon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18ffd"/>
                  </a:solidFill>
                  <a:latin typeface="Tahoma"/>
                </a:rPr>
                <a:t>Railw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038480" y="3581280"/>
            <a:ext cx="4800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Mass produced goods “pushed” dow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Raw material : coal, ir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Investments in buildings, machines, stoc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Taylorism/Marx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73200" y="-360"/>
            <a:ext cx="636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Digital Tim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276720"/>
            <a:ext cx="14942160" cy="3825000"/>
            <a:chOff x="457200" y="3276720"/>
            <a:chExt cx="14942160" cy="3825000"/>
          </a:xfrm>
        </p:grpSpPr>
        <p:sp>
          <p:nvSpPr>
            <p:cNvPr id="175" name=""/>
            <p:cNvSpPr/>
            <p:nvPr/>
          </p:nvSpPr>
          <p:spPr>
            <a:xfrm>
              <a:off x="457200" y="5168880"/>
              <a:ext cx="7918560" cy="1652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0160" y="4419720"/>
              <a:ext cx="180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18ffd"/>
                  </a:solidFill>
                  <a:latin typeface="Arial"/>
                </a:rPr>
                <a:t>Industrial 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0360" y="3276720"/>
              <a:ext cx="13869000" cy="38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2"/>
                  </a:moveTo>
                  <a:arcTo wR="10800" hR="10800" stAng="-10784653" swAng="5386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2"/>
                  </a:moveTo>
                  <a:arcTo wR="10800" hR="10800" stAng="-10784653" swAng="5386790"/>
                </a:path>
              </a:pathLst>
            </a:custGeom>
            <a:noFill/>
            <a:ln cap="rnd" w="507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6600" y="5410080"/>
              <a:ext cx="1527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618ffd"/>
                  </a:solidFill>
                  <a:latin typeface="Tahoma"/>
                </a:rPr>
                <a:t>Napoléon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618ffd"/>
                  </a:solidFill>
                  <a:latin typeface="Tahoma"/>
                </a:rPr>
                <a:t>Railw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00800" y="2590920"/>
            <a:ext cx="4267080" cy="3460320"/>
            <a:chOff x="6400800" y="2590920"/>
            <a:chExt cx="4267080" cy="3460320"/>
          </a:xfrm>
        </p:grpSpPr>
        <p:sp>
          <p:nvSpPr>
            <p:cNvPr id="180" name=""/>
            <p:cNvSpPr/>
            <p:nvPr/>
          </p:nvSpPr>
          <p:spPr>
            <a:xfrm>
              <a:off x="7008840" y="2833560"/>
              <a:ext cx="1510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33"/>
                  </a:solidFill>
                  <a:latin typeface="Tahoma"/>
                </a:rPr>
                <a:t>Digital 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00800" y="2590920"/>
              <a:ext cx="426708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677" swAng="53816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677" swAng="5381698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68840" y="5410080"/>
              <a:ext cx="1064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33"/>
                  </a:solidFill>
                  <a:latin typeface="Tahoma"/>
                </a:rPr>
                <a:t>Chir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33"/>
                  </a:solidFill>
                  <a:latin typeface="Tahoma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724280" y="3657600"/>
            <a:ext cx="38800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Mass production, « Pushed »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Raw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Tahoma"/>
              </a:rPr>
              <a:t>Heavy « tangible » investments  Taylorism/Marx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752480"/>
            <a:ext cx="3429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Networked Organ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Pulled flows « On demand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Fast and 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ahoma"/>
              </a:rPr>
              <a:t>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51240" y="544032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dustrial times IT challeng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451240" y="2239920"/>
            <a:ext cx="1600200" cy="533520"/>
          </a:xfrm>
          <a:prstGeom prst="rect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51240" y="2773440"/>
            <a:ext cx="1600200" cy="533160"/>
          </a:xfrm>
          <a:prstGeom prst="rect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1240" y="330660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51240" y="3840120"/>
            <a:ext cx="1600200" cy="533520"/>
          </a:xfrm>
          <a:prstGeom prst="rect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51240" y="4373640"/>
            <a:ext cx="16002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51240" y="490680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4760" y="22766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97200" y="3390840"/>
            <a:ext cx="10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75520" y="393372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64240" y="448632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2200" y="558648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18280" y="505296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ktg-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209680"/>
            <a:ext cx="0" cy="3733920"/>
          </a:xfrm>
          <a:prstGeom prst="line">
            <a:avLst/>
          </a:prstGeom>
          <a:ln w="38160">
            <a:solidFill>
              <a:srgbClr val="618ffd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262320"/>
            <a:ext cx="1752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blem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=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2590920"/>
            <a:ext cx="30038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"re-foundation"</a:t>
            </a:r>
            <a:br>
              <a:rPr sz="3200"/>
            </a:b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= </a:t>
            </a:r>
            <a:br>
              <a:rPr sz="3200"/>
            </a:br>
            <a:r>
              <a:rPr b="0" lang="en-US" sz="3200" spc="-1" strike="noStrike">
                <a:solidFill>
                  <a:srgbClr val="618ffd"/>
                </a:solidFill>
                <a:latin typeface="Tahoma"/>
              </a:rPr>
              <a:t>E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4760" y="22766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2360" y="2852640"/>
            <a:ext cx="159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evious week V.I.P.</a:t>
            </a:r>
            <a:br>
              <a:rPr sz="3200"/>
            </a:br>
            <a:r>
              <a:rPr b="1" lang="fr-FR" sz="2000" spc="-1" strike="noStrike">
                <a:solidFill>
                  <a:srgbClr val="000099"/>
                </a:solidFill>
                <a:latin typeface="Tahoma"/>
              </a:rPr>
              <a:t>(Very Important Points)</a:t>
            </a: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Digital times IT systems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254808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338616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4148280"/>
            <a:ext cx="1042920" cy="647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me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ch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0" y="4910040"/>
            <a:ext cx="1042920" cy="6098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1557360"/>
            <a:ext cx="104292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ycl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70720" y="5638680"/>
            <a:ext cx="1123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1640" y="1143000"/>
            <a:ext cx="1658880" cy="1523880"/>
          </a:xfrm>
          <a:prstGeom prst="rightArrow">
            <a:avLst>
              <a:gd name="adj1" fmla="val 50000"/>
              <a:gd name="adj2" fmla="val 34361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70720" y="2514600"/>
            <a:ext cx="11239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70720" y="3352680"/>
            <a:ext cx="1123920" cy="648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icroproces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raphic Display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N  DB-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70720" y="4114800"/>
            <a:ext cx="1123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, fibre 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,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ML,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62440" y="4876920"/>
            <a:ext cx="1148040" cy="618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100%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Internal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5040" y="5638680"/>
            <a:ext cx="1042920" cy="533520"/>
          </a:xfrm>
          <a:prstGeom prst="rect">
            <a:avLst/>
          </a:prstGeom>
          <a:solidFill>
            <a:srgbClr val="1d1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1143000"/>
            <a:ext cx="1660680" cy="1523880"/>
          </a:xfrm>
          <a:prstGeom prst="rightArrow">
            <a:avLst>
              <a:gd name="adj1" fmla="val 50000"/>
              <a:gd name="adj2" fmla="val 34398"/>
            </a:avLst>
          </a:prstGeom>
          <a:gradFill rotWithShape="0">
            <a:gsLst>
              <a:gs pos="0">
                <a:srgbClr val="989898"/>
              </a:gs>
              <a:gs pos="50000">
                <a:srgbClr val="ffffff"/>
              </a:gs>
              <a:gs pos="100000">
                <a:srgbClr val="989898"/>
              </a:gs>
            </a:gsLst>
            <a:lin ang="5400000"/>
          </a:gradFill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96200" y="2514600"/>
            <a:ext cx="1042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9440" y="3352680"/>
            <a:ext cx="1042920" cy="685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, Fiber op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et,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TML, 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07360" y="4114800"/>
            <a:ext cx="1042920" cy="6476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irel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G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02680" y="4876920"/>
            <a:ext cx="1042920" cy="609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ternal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xter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971800" y="2362320"/>
            <a:ext cx="0" cy="3733560"/>
          </a:xfrm>
          <a:prstGeom prst="line">
            <a:avLst/>
          </a:prstGeom>
          <a:ln w="38160">
            <a:solidFill>
              <a:srgbClr val="618ffd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448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971800"/>
            <a:ext cx="175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34040" y="196524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ny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igital times IT system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029200" y="2038320"/>
            <a:ext cx="1638360" cy="4199040"/>
            <a:chOff x="5029200" y="2038320"/>
            <a:chExt cx="1638360" cy="4199040"/>
          </a:xfrm>
        </p:grpSpPr>
        <p:sp>
          <p:nvSpPr>
            <p:cNvPr id="228" name=""/>
            <p:cNvSpPr/>
            <p:nvPr/>
          </p:nvSpPr>
          <p:spPr>
            <a:xfrm>
              <a:off x="5143680" y="2656080"/>
              <a:ext cx="1447560" cy="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29200" y="3189240"/>
              <a:ext cx="1447920" cy="0"/>
            </a:xfrm>
            <a:prstGeom prst="line">
              <a:avLst/>
            </a:prstGeom>
            <a:ln w="19080">
              <a:solidFill>
                <a:srgbClr val="00ae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9200" y="372276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29200" y="425628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9200" y="478944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05520" y="524664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5520" y="5780160"/>
              <a:ext cx="144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67360" y="2732040"/>
              <a:ext cx="1600200" cy="38124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67360" y="2808360"/>
              <a:ext cx="1600200" cy="68580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05520" y="2884680"/>
              <a:ext cx="1523880" cy="1295280"/>
            </a:xfrm>
            <a:prstGeom prst="line">
              <a:avLst/>
            </a:prstGeom>
            <a:ln w="19080">
              <a:solidFill>
                <a:srgbClr val="1d13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2046240"/>
              <a:ext cx="1371600" cy="4191120"/>
            </a:xfrm>
            <a:prstGeom prst="ellipse">
              <a:avLst/>
            </a:prstGeom>
            <a:noFill/>
            <a:ln w="25560">
              <a:solidFill>
                <a:srgbClr val="618ff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9760" y="2038320"/>
              <a:ext cx="1021680" cy="458280"/>
            </a:xfrm>
            <a:prstGeom prst="rect">
              <a:avLst/>
            </a:prstGeom>
            <a:noFill/>
            <a:ln w="93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18ffd"/>
                  </a:solidFill>
                  <a:latin typeface="Tahoma"/>
                </a:rPr>
                <a:t>xxN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971800" y="1219320"/>
            <a:ext cx="5543280" cy="4876200"/>
            <a:chOff x="2971800" y="1219320"/>
            <a:chExt cx="5543280" cy="4876200"/>
          </a:xfrm>
        </p:grpSpPr>
        <p:sp>
          <p:nvSpPr>
            <p:cNvPr id="241" name=""/>
            <p:cNvSpPr/>
            <p:nvPr/>
          </p:nvSpPr>
          <p:spPr>
            <a:xfrm>
              <a:off x="3809880" y="1904760"/>
              <a:ext cx="3733920" cy="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5562360"/>
              <a:ext cx="1600200" cy="5331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0" y="2361960"/>
              <a:ext cx="1600200" cy="533160"/>
            </a:xfrm>
            <a:prstGeom prst="rect">
              <a:avLst/>
            </a:prstGeom>
            <a:solidFill>
              <a:srgbClr val="1d13e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2895480"/>
              <a:ext cx="1600200" cy="533160"/>
            </a:xfrm>
            <a:prstGeom prst="rect">
              <a:avLst/>
            </a:prstGeom>
            <a:solidFill>
              <a:srgbClr val="00ae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0" y="3429000"/>
              <a:ext cx="1600200" cy="53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58000" y="3962160"/>
              <a:ext cx="1600200" cy="533160"/>
            </a:xfrm>
            <a:prstGeom prst="rect">
              <a:avLst/>
            </a:prstGeom>
            <a:solidFill>
              <a:srgbClr val="1d13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58000" y="4495680"/>
              <a:ext cx="1600200" cy="53316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0" y="5029200"/>
              <a:ext cx="1600200" cy="53280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33320" y="2417760"/>
              <a:ext cx="126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2320" y="2965320"/>
              <a:ext cx="1248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abr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9680" y="351288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stiq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42480" y="4060800"/>
              <a:ext cx="822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ha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43560" y="4608360"/>
              <a:ext cx="831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14040" y="5708520"/>
              <a:ext cx="91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9440" y="5175000"/>
              <a:ext cx="136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Mktg-Co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1800" y="1219320"/>
              <a:ext cx="525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ed for external integ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62760" y="19810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ompany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191040" y="555948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91040" y="2359080"/>
            <a:ext cx="1600200" cy="533520"/>
          </a:xfrm>
          <a:prstGeom prst="rect">
            <a:avLst/>
          </a:prstGeom>
          <a:solidFill>
            <a:srgbClr val="1d13e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91040" y="2892600"/>
            <a:ext cx="1600200" cy="533160"/>
          </a:xfrm>
          <a:prstGeom prst="rect">
            <a:avLst/>
          </a:prstGeom>
          <a:solidFill>
            <a:srgbClr val="00ae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91040" y="342576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91040" y="3959280"/>
            <a:ext cx="1600200" cy="533520"/>
          </a:xfrm>
          <a:prstGeom prst="rect">
            <a:avLst/>
          </a:prstGeom>
          <a:solidFill>
            <a:srgbClr val="1d1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91040" y="4492800"/>
            <a:ext cx="1600200" cy="53316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91040" y="502596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7000" y="3510000"/>
            <a:ext cx="100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15320" y="4052880"/>
            <a:ext cx="1251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04040" y="4605480"/>
            <a:ext cx="67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82000" y="57056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8080" y="5172120"/>
            <a:ext cx="136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ktg-Co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4560" y="2395440"/>
            <a:ext cx="207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/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2160" y="2971800"/>
            <a:ext cx="159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added value to busines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3000" y="1197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technologies contribution to businesses evolution and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 – Sloan School of Management, 5 lev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Automate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Integrate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Re – design internal process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Support and integrate external player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Re invent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Valeur ajoutée I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47920" y="1611360"/>
            <a:ext cx="7467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utomatiser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799400" cy="2762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 flipV="1">
            <a:off x="1371600" y="3351960"/>
            <a:ext cx="1297080" cy="220680"/>
          </a:xfrm>
          <a:prstGeom prst="rect">
            <a:avLst/>
          </a:prstGeom>
          <a:solidFill>
            <a:srgbClr val="618ff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ntégrer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705800" cy="1079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392120" y="3068640"/>
            <a:ext cx="7356600" cy="2016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619280" y="3284640"/>
            <a:ext cx="1297080" cy="287280"/>
          </a:xfrm>
          <a:prstGeom prst="rect">
            <a:avLst/>
          </a:prstGeom>
          <a:solidFill>
            <a:srgbClr val="618ff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fonte intern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561080" cy="23763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7343640" cy="1152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3213000"/>
            <a:ext cx="719280" cy="287280"/>
          </a:xfrm>
          <a:prstGeom prst="rect">
            <a:avLst/>
          </a:prstGeom>
          <a:solidFill>
            <a:srgbClr val="618ff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fonte extern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7632720" cy="2305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921800" cy="1297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332000" y="3284640"/>
            <a:ext cx="718920" cy="287280"/>
          </a:xfrm>
          <a:prstGeom prst="rect">
            <a:avLst/>
          </a:prstGeom>
          <a:solidFill>
            <a:srgbClr val="618ff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 inventer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447920" y="2917800"/>
            <a:ext cx="7467480" cy="2166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7489800" cy="10796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476360" y="2924280"/>
            <a:ext cx="1297080" cy="287280"/>
          </a:xfrm>
          <a:prstGeom prst="rect">
            <a:avLst/>
          </a:prstGeom>
          <a:solidFill>
            <a:srgbClr val="618ff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Macro economy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864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NP (PIB in Fren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’s Bud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ments (households exclu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penditures (household excl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56000" y="1523520"/>
            <a:ext cx="2087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ro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7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4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xpenditur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expenditure 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IT in French ec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manufacturing industries </a:t>
            </a:r>
            <a:br>
              <a:rPr sz="2400"/>
            </a:b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+  financial industries </a:t>
            </a:r>
            <a:br>
              <a:rPr sz="2400"/>
            </a:b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+  administrations ( central and local):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80 billions Euros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4,5 % of GNP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33 % of total investments of French economy</a:t>
            </a:r>
            <a:endParaRPr b="0" lang="en-US" sz="2400" spc="-1" strike="noStrike">
              <a:solidFill>
                <a:srgbClr val="063de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6/2005 growth : </a:t>
            </a:r>
            <a:r>
              <a:rPr b="1" lang="en-US" sz="36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6 %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vs other industri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o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. Equip. manu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 /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nd IT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24080" y="1294920"/>
            <a:ext cx="223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€ bill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73.8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90,5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45,0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19,1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203,5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48,0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0,0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295280"/>
            <a:ext cx="22035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€ bill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33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5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8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31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88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71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5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(es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2401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2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16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7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Tahoma"/>
              </a:rPr>
              <a:t>(es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mploymen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nce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Approx. 500 000 jobs in various IT businesses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60 à 70 000 recruitments </a:t>
            </a:r>
            <a:br>
              <a:rPr sz="2800"/>
            </a:b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15 à 20 000 positions created (net growth)</a:t>
            </a:r>
            <a:endParaRPr b="0" lang="en-US" sz="2800" spc="-1" strike="noStrike">
              <a:solidFill>
                <a:srgbClr val="063de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xpenditures by industries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(%)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6120" y="1521000"/>
          <a:ext cx="75056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521000"/>
                    <a:ext cx="7505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expenditures by items  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(%)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6120" y="1521000"/>
          <a:ext cx="75056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521000"/>
                    <a:ext cx="7505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Doesn’t Matter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Nicholas G. Carr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??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13:26:37Z</dcterms:created>
  <dc:creator>Consultant</dc:creator>
  <dc:description/>
  <dc:language>en-US</dc:language>
  <cp:lastModifiedBy>Consultant</cp:lastModifiedBy>
  <dcterms:modified xsi:type="dcterms:W3CDTF">2007-10-01T19:42:19Z</dcterms:modified>
  <cp:revision>9</cp:revision>
  <dc:subject/>
  <dc:title>Pour une entreprise,  à quoi servent ces   dépenses/investissements ???</dc:title>
</cp:coreProperties>
</file>