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22040" y="6586560"/>
            <a:ext cx="115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E20197FD-97DC-46E6-9C64-8A6FEEDC5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75520" y="6477120"/>
            <a:ext cx="234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29880" y="649116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D208-C288-4918-A547-B09A017436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0640" y="6324480"/>
            <a:ext cx="338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Jean-Noël Gorge, sept 25th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34960" y="6184800"/>
            <a:ext cx="746784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22800" y="63198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6F51-325C-4717-8209-C43CE4724428}" type="slidenum">
              <a:rPr b="1" lang="en-US" sz="1600" spc="-1" strike="noStrike">
                <a:solidFill>
                  <a:srgbClr val="000099"/>
                </a:solidFill>
                <a:latin typeface="Garamond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/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1219320"/>
            <a:ext cx="7391160" cy="0"/>
          </a:xfrm>
          <a:prstGeom prst="line">
            <a:avLst/>
          </a:prstGeom>
          <a:ln w="34920">
            <a:solidFill>
              <a:srgbClr val="1d1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22040" y="6586560"/>
            <a:ext cx="115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74DE039E-0FFE-439D-ACA8-19C47A0898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5520" y="6477120"/>
            <a:ext cx="234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ean-Noë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rg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 mai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29880" y="6491160"/>
            <a:ext cx="129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139C-E17F-4E18-94A9-DF585E970F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90640" y="6324480"/>
            <a:ext cx="338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Jean-Noël Gorge, sept 25th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34960" y="6184800"/>
            <a:ext cx="7467840" cy="0"/>
          </a:xfrm>
          <a:prstGeom prst="line">
            <a:avLst/>
          </a:prstGeom>
          <a:ln w="349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22800" y="631980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25F5-A738-478A-BF02-231DB23750B0}" type="slidenum">
              <a:rPr b="1" lang="en-US" sz="1600" spc="-1" strike="noStrike">
                <a:solidFill>
                  <a:srgbClr val="000099"/>
                </a:solidFill>
                <a:latin typeface="Garamond"/>
              </a:rPr>
              <a:t>&lt;number&gt;</a:t>
            </a:fld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/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2640" cy="1130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-n.gorge@wanadoo.fr" TargetMode="External"/><Relationship Id="rId2" Type="http://schemas.openxmlformats.org/officeDocument/2006/relationships/hyperlink" Target="mailto:j-n.gorge@wanadoo.fr" TargetMode="External"/><Relationship Id="rId3" Type="http://schemas.openxmlformats.org/officeDocument/2006/relationships/hyperlink" Target="mailto:j-n.gorge@wanadoo.fr" TargetMode="External"/><Relationship Id="rId4" Type="http://schemas.openxmlformats.org/officeDocument/2006/relationships/hyperlink" Target="mailto:j-n.gorge@wanadoo.fr" TargetMode="Externa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EPITA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T Markets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asic Business and Marketing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Tahoma"/>
              </a:rPr>
              <a:t>Sept 25th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Tahoma"/>
              </a:rPr>
              <a:t>Jean-Noël GORG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opics discussed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71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c economic and business elements more or less relevant for your future (first ?) job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and growth of IT indust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ment and Jobs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Jobs, grades, careers in large corporation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opics discussed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, competitive advantage or differentiation expected from IT application you will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layers of the IT services industr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, respective roles and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arning !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12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s course’s approach is not backed by any academic resear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 covers only professional usage of I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 and personal usage and market exclu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arning !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t is predominantly based on personal “hands on” experience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 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w manufacturers, SSII, Consulting, B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ditors, distributors, Start Ups, B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, Marketing, Communication,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perience or specific skills in organization, finance and 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Program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467480" cy="46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cture 1 (Today)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jor indicators for the IT industry in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cture  2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contribution and added value  to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cture 3 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60-2006 : majors phases in IT industr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Lecture 4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services industry ( largest employer and recrui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Program (2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cture 5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orporate emplo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Lecture 6 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oom or add ons to previously discussed or new topics, at your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am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Major indicator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Macro Economy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NP (PIB in French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ion’s Budge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ments (households exclude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expenditures (household excl.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Macro economy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56451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F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NP (PIB in French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ion’s Budge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ments (households exclude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 expenditures (household excl.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056000" y="1523520"/>
            <a:ext cx="208764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uros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78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7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4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GENDA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6676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o am I ?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Jean-Noël G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1d13eb"/>
                </a:solidFill>
                <a:uFillTx/>
                <a:latin typeface="Tahoma"/>
                <a:hlinkClick r:id="rId1"/>
              </a:rPr>
              <a:t>j-n.gorge@</a:t>
            </a:r>
            <a:r>
              <a:rPr b="0" lang="en-US" sz="2400" spc="-1" strike="noStrike" u="sng">
                <a:solidFill>
                  <a:srgbClr val="1d13eb"/>
                </a:solidFill>
                <a:uFillTx/>
                <a:latin typeface="Tahoma"/>
                <a:hlinkClick r:id="rId2"/>
              </a:rPr>
              <a:t>wanadoo</a:t>
            </a:r>
            <a:r>
              <a:rPr b="0" lang="en-US" sz="2400" spc="-1" strike="noStrike" u="sng">
                <a:solidFill>
                  <a:srgbClr val="1d13eb"/>
                </a:solidFill>
                <a:uFillTx/>
                <a:latin typeface="Tahoma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1d13eb"/>
                </a:solidFill>
                <a:uFillTx/>
                <a:latin typeface="Tahoma"/>
                <a:hlinkClick r:id="rId4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Expenditur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T expenditure 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mportance of IT in French econom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facturing industr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financial industr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administrations ( central and loc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80 billions E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4,5 % of G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33 % of total investments of French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6/2005 growth : </a:t>
            </a:r>
            <a:r>
              <a:rPr b="0" lang="en-US" sz="2400" spc="-1" strike="noStrike">
                <a:solidFill>
                  <a:srgbClr val="063de8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6 % !!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Growth and investment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96360" y="46674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+1,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96360" y="4437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+3,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3880" y="1863720"/>
            <a:ext cx="1440" cy="4276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200" y="6140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200" y="552456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200" y="49244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200" y="43084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200" y="369396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200" y="30798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200" y="247824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200" y="18637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3880" y="4924440"/>
            <a:ext cx="8001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238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04760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4590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8424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30832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73384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14496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5686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9420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41972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2904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25456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800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10380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5152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940440" y="4924080"/>
            <a:ext cx="180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36452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79004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20116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24880" y="4924080"/>
            <a:ext cx="1440" cy="586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8720" y="4352760"/>
            <a:ext cx="7591320" cy="673200"/>
          </a:xfrm>
          <a:custGeom>
            <a:avLst/>
            <a:gdLst/>
            <a:ahLst/>
            <a:rect l="l" t="t" r="r" b="b"/>
            <a:pathLst>
              <a:path w="518" h="46">
                <a:moveTo>
                  <a:pt x="0" y="0"/>
                </a:moveTo>
                <a:lnTo>
                  <a:pt x="29" y="4"/>
                </a:lnTo>
                <a:lnTo>
                  <a:pt x="58" y="17"/>
                </a:lnTo>
                <a:lnTo>
                  <a:pt x="87" y="30"/>
                </a:lnTo>
                <a:lnTo>
                  <a:pt x="115" y="26"/>
                </a:lnTo>
                <a:lnTo>
                  <a:pt x="144" y="46"/>
                </a:lnTo>
                <a:lnTo>
                  <a:pt x="173" y="21"/>
                </a:lnTo>
                <a:lnTo>
                  <a:pt x="202" y="24"/>
                </a:lnTo>
                <a:lnTo>
                  <a:pt x="230" y="29"/>
                </a:lnTo>
                <a:lnTo>
                  <a:pt x="259" y="23"/>
                </a:lnTo>
                <a:lnTo>
                  <a:pt x="288" y="10"/>
                </a:lnTo>
                <a:lnTo>
                  <a:pt x="316" y="12"/>
                </a:lnTo>
                <a:lnTo>
                  <a:pt x="345" y="7"/>
                </a:lnTo>
                <a:lnTo>
                  <a:pt x="374" y="21"/>
                </a:lnTo>
                <a:lnTo>
                  <a:pt x="403" y="29"/>
                </a:lnTo>
                <a:lnTo>
                  <a:pt x="431" y="34"/>
                </a:lnTo>
                <a:lnTo>
                  <a:pt x="460" y="18"/>
                </a:lnTo>
                <a:lnTo>
                  <a:pt x="489" y="27"/>
                </a:lnTo>
                <a:lnTo>
                  <a:pt x="518" y="24"/>
                </a:lnTo>
              </a:path>
            </a:pathLst>
          </a:custGeom>
          <a:noFill/>
          <a:ln w="442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8720" y="3693960"/>
            <a:ext cx="7591320" cy="2079720"/>
          </a:xfrm>
          <a:custGeom>
            <a:avLst/>
            <a:gdLst/>
            <a:ahLst/>
            <a:rect l="l" t="t" r="r" b="b"/>
            <a:pathLst>
              <a:path w="518" h="142">
                <a:moveTo>
                  <a:pt x="0" y="0"/>
                </a:moveTo>
                <a:lnTo>
                  <a:pt x="29" y="4"/>
                </a:lnTo>
                <a:lnTo>
                  <a:pt x="58" y="42"/>
                </a:lnTo>
                <a:lnTo>
                  <a:pt x="87" y="100"/>
                </a:lnTo>
                <a:lnTo>
                  <a:pt x="115" y="79"/>
                </a:lnTo>
                <a:lnTo>
                  <a:pt x="144" y="142"/>
                </a:lnTo>
                <a:lnTo>
                  <a:pt x="173" y="75"/>
                </a:lnTo>
                <a:lnTo>
                  <a:pt x="202" y="71"/>
                </a:lnTo>
                <a:lnTo>
                  <a:pt x="230" y="84"/>
                </a:lnTo>
                <a:lnTo>
                  <a:pt x="259" y="79"/>
                </a:lnTo>
                <a:lnTo>
                  <a:pt x="288" y="4"/>
                </a:lnTo>
                <a:lnTo>
                  <a:pt x="316" y="8"/>
                </a:lnTo>
                <a:lnTo>
                  <a:pt x="345" y="8"/>
                </a:lnTo>
                <a:lnTo>
                  <a:pt x="374" y="59"/>
                </a:lnTo>
                <a:lnTo>
                  <a:pt x="403" y="92"/>
                </a:lnTo>
                <a:lnTo>
                  <a:pt x="431" y="100"/>
                </a:lnTo>
                <a:lnTo>
                  <a:pt x="460" y="67"/>
                </a:lnTo>
                <a:lnTo>
                  <a:pt x="489" y="56"/>
                </a:lnTo>
                <a:lnTo>
                  <a:pt x="518" y="54"/>
                </a:ln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000" y="6022800"/>
            <a:ext cx="35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-10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8120" y="5407200"/>
            <a:ext cx="27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-5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6800" y="480708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0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6800" y="4192560"/>
            <a:ext cx="21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5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320" y="357660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10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9320" y="296244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15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9320" y="236232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20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9320" y="1746360"/>
            <a:ext cx="30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 Narrow"/>
              </a:rPr>
              <a:t>25,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8900000">
            <a:off x="4122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8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900000">
            <a:off x="8373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8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8900000">
            <a:off x="126144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8900000">
            <a:off x="16869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8900000">
            <a:off x="209808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8900000">
            <a:off x="25218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8900000">
            <a:off x="294732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8900000">
            <a:off x="337284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8900000">
            <a:off x="37821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8900000">
            <a:off x="420768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8900000">
            <a:off x="46332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8900000">
            <a:off x="504288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8900000">
            <a:off x="5468040" y="521172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8900000">
            <a:off x="58935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8900000">
            <a:off x="631764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8900000">
            <a:off x="672876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8900000">
            <a:off x="7163640" y="522900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8900000">
            <a:off x="757800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8900000">
            <a:off x="8003520" y="5211360"/>
            <a:ext cx="29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08600" y="5861160"/>
            <a:ext cx="366480" cy="1440"/>
          </a:xfrm>
          <a:prstGeom prst="line">
            <a:avLst/>
          </a:prstGeom>
          <a:ln w="442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5743440"/>
            <a:ext cx="33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GN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21400" y="5861160"/>
            <a:ext cx="366480" cy="144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30720" y="574344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 Narrow"/>
              </a:rPr>
              <a:t>invest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vs other industri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gricultu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otiv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ns. Equip. manuf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erg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ank /Insura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and IT servic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24080" y="1294920"/>
            <a:ext cx="2232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€ billions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7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9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03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8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80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1295280"/>
            <a:ext cx="22035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€ b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3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1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8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71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4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s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1295280"/>
            <a:ext cx="2401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m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63de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thous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7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est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6719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Governing factor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1523520"/>
            <a:ext cx="81010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« Mature» industry, despite flow of innovati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evolution than creation in busines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tibility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ility et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or  5°  systems’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s and budget sensitive, 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and more difficult to build real and sustainable competitive advant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 is a smal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187280" y="1523520"/>
            <a:ext cx="79567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ndustry today has lost most of its « leading edge » attributes. From an economic standpoint, its growth in volume is more and more dependant on global econom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growth of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marg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mmended reading :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expenditures by industries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(%)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446120" y="1521000"/>
          <a:ext cx="75056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521000"/>
                    <a:ext cx="75056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T expenditures by items   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(%)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446120" y="1521000"/>
          <a:ext cx="75056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521000"/>
                    <a:ext cx="75056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employmen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ance 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. 500 000 jobs in various IT busi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 à 70 000 recruitm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 à 20 000 positions created (net grow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T employment perspectiv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01880" y="3712320"/>
            <a:ext cx="5198040" cy="1393200"/>
            <a:chOff x="1901880" y="3712320"/>
            <a:chExt cx="5198040" cy="1393200"/>
          </a:xfrm>
        </p:grpSpPr>
        <p:sp>
          <p:nvSpPr>
            <p:cNvPr id="213" name=""/>
            <p:cNvSpPr/>
            <p:nvPr/>
          </p:nvSpPr>
          <p:spPr>
            <a:xfrm rot="19375800">
              <a:off x="2050920" y="4363560"/>
              <a:ext cx="459000" cy="648720"/>
            </a:xfrm>
            <a:prstGeom prst="downArrow">
              <a:avLst>
                <a:gd name="adj1" fmla="val 48324"/>
                <a:gd name="adj2" fmla="val 5234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656565"/>
                </a:gs>
              </a:gsLst>
              <a:lin ang="76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21560400">
              <a:off x="4139640" y="3716280"/>
              <a:ext cx="717480" cy="933120"/>
            </a:xfrm>
            <a:prstGeom prst="downArrow">
              <a:avLst>
                <a:gd name="adj1" fmla="val 48324"/>
                <a:gd name="adj2" fmla="val 4816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656565"/>
                </a:gs>
              </a:gsLst>
              <a:lin ang="53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rot="2376600">
              <a:off x="6443280" y="4291920"/>
              <a:ext cx="471600" cy="749160"/>
            </a:xfrm>
            <a:prstGeom prst="downArrow">
              <a:avLst>
                <a:gd name="adj1" fmla="val 48324"/>
                <a:gd name="adj2" fmla="val 58835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656565"/>
                </a:gs>
              </a:gsLst>
              <a:lin ang="77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43000" y="5099040"/>
            <a:ext cx="8713800" cy="106524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50000">
                <a:srgbClr val="a9c2fc"/>
              </a:gs>
              <a:gs pos="100000">
                <a:srgbClr val="618ffd"/>
              </a:gs>
            </a:gsLst>
            <a:lin ang="10800000"/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7 000 new positions (net !) to be filled in France  by 2015*                                        Where to go to find candidates ? How to attract and retain ?                                          Competition tougher than ever between IT and other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27280" y="1197000"/>
            <a:ext cx="3887640" cy="2376000"/>
            <a:chOff x="2627280" y="1197000"/>
            <a:chExt cx="3887640" cy="2376000"/>
          </a:xfrm>
        </p:grpSpPr>
        <p:sp>
          <p:nvSpPr>
            <p:cNvPr id="218" name=""/>
            <p:cNvSpPr/>
            <p:nvPr/>
          </p:nvSpPr>
          <p:spPr>
            <a:xfrm>
              <a:off x="2627280" y="1225080"/>
              <a:ext cx="3887640" cy="2347920"/>
            </a:xfrm>
            <a:prstGeom prst="ellipse">
              <a:avLst/>
            </a:prstGeom>
            <a:gradFill rotWithShape="0">
              <a:gsLst>
                <a:gs pos="0">
                  <a:srgbClr val="feeca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9520" y="1197000"/>
              <a:ext cx="35514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apy-b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58 000 IT Pros wi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tire in Fra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rom now to 2015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0" y="2205000"/>
            <a:ext cx="2916000" cy="2714040"/>
            <a:chOff x="0" y="2205000"/>
            <a:chExt cx="2916000" cy="2714040"/>
          </a:xfrm>
        </p:grpSpPr>
        <p:sp>
          <p:nvSpPr>
            <p:cNvPr id="221" name=""/>
            <p:cNvSpPr/>
            <p:nvPr/>
          </p:nvSpPr>
          <p:spPr>
            <a:xfrm>
              <a:off x="0" y="2231280"/>
              <a:ext cx="2916000" cy="2205720"/>
            </a:xfrm>
            <a:prstGeom prst="ellipse">
              <a:avLst/>
            </a:prstGeom>
            <a:gradFill rotWithShape="0">
              <a:gsLst>
                <a:gs pos="0">
                  <a:srgbClr val="feeca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360" y="2205000"/>
              <a:ext cx="2663640" cy="27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re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f 149 000 ne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jobs positions in IT from now to 2015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27640" y="2320920"/>
            <a:ext cx="2916000" cy="2250720"/>
            <a:chOff x="6227640" y="2320920"/>
            <a:chExt cx="2916000" cy="2250720"/>
          </a:xfrm>
        </p:grpSpPr>
        <p:sp>
          <p:nvSpPr>
            <p:cNvPr id="224" name=""/>
            <p:cNvSpPr/>
            <p:nvPr/>
          </p:nvSpPr>
          <p:spPr>
            <a:xfrm>
              <a:off x="6227640" y="2347560"/>
              <a:ext cx="2916000" cy="2224080"/>
            </a:xfrm>
            <a:prstGeom prst="ellipse">
              <a:avLst/>
            </a:prstGeom>
            <a:gradFill rotWithShape="0">
              <a:gsLst>
                <a:gs pos="0">
                  <a:srgbClr val="feeca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72000" y="2320920"/>
              <a:ext cx="266364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carcity of new graduat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 students taking 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ast experienc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81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job in IT at Olivetti France internal IT department October 69, (program coding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, graduated from HEC in june 1969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es and/or marketing positions at 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 Sog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e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ersen Consu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ante Conse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T added value to business ??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IT added value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47920" y="1727280"/>
            <a:ext cx="74674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Question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ir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still active in consulting for selected clients and jo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Consulting practic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ur clients : I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ervic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ompan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« SSII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epartments of major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lting firms  (Accenture  and the like) mainly dedicated to I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ditors with strategic positions in consulting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Consulting practice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483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r jobs 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sitioning, targetting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ing (products and services offering, mixes, alliances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les performance (account manag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ger and acquisition (M&amp;A) for small and very small companies (&lt; 5 M Eu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Tahoma"/>
              </a:rPr>
              <a:t>Who are you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bjectives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bjectives ?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 help you get a better return on your investment in tuition fees 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63de8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w ?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 TECHNICAL DISCUSSION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ahom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ahoma"/>
              </a:rPr>
              <a:t>A better understanding of basic forces driving the business of this industry</a:t>
            </a: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(and, by the way  your  future employ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3T17:40:25Z</dcterms:created>
  <dc:creator>Jean-Noël GORGE</dc:creator>
  <dc:description/>
  <dc:language>en-US</dc:language>
  <cp:lastModifiedBy>Consultant</cp:lastModifiedBy>
  <cp:lastPrinted>1998-01-10T18:13:23Z</cp:lastPrinted>
  <dcterms:modified xsi:type="dcterms:W3CDTF">2007-09-24T16:56:09Z</dcterms:modified>
  <cp:revision>32</cp:revision>
  <dc:subject/>
  <dc:title>EURIDIS</dc:title>
</cp:coreProperties>
</file>