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3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20.wmf" ContentType="image/x-wmf"/>
  <Override PartName="/ppt/media/image17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8.wmf" ContentType="image/x-wmf"/>
  <Override PartName="/ppt/media/image9.wmf" ContentType="image/x-wmf"/>
  <Override PartName="/ppt/media/image5.png" ContentType="image/png"/>
  <Override PartName="/ppt/media/image35.png" ContentType="image/png"/>
  <Override PartName="/ppt/media/image10.wmf" ContentType="image/x-wmf"/>
  <Override PartName="/ppt/media/image31.png" ContentType="image/png"/>
  <Override PartName="/ppt/media/image14.wmf" ContentType="image/x-wmf"/>
  <Override PartName="/ppt/media/image29.png" ContentType="image/png"/>
  <Override PartName="/ppt/media/image32.png" ContentType="image/png"/>
  <Override PartName="/ppt/media/image1.jpeg" ContentType="image/jpeg"/>
  <Override PartName="/ppt/media/image15.wmf" ContentType="image/x-wmf"/>
  <Override PartName="/ppt/media/image36.png" ContentType="image/png"/>
  <Override PartName="/ppt/media/image12.wmf" ContentType="image/x-wmf"/>
  <Override PartName="/ppt/media/image27.png" ContentType="image/png"/>
  <Override PartName="/ppt/media/image37.png" ContentType="image/png"/>
  <Override PartName="/ppt/media/image4.png" ContentType="image/png"/>
  <Override PartName="/ppt/media/image34.png" ContentType="image/png"/>
  <Override PartName="/ppt/media/image7.wmf" ContentType="image/x-wmf"/>
  <Override PartName="/ppt/media/image11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6.wmf" ContentType="image/x-wmf"/>
  <Override PartName="/ppt/media/image2.jpeg" ContentType="image/jpeg"/>
  <Override PartName="/ppt/media/image25.wmf" ContentType="image/x-wmf"/>
  <Override PartName="/ppt/media/image1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CACE-3804-4784-8E22-678CC602BC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urn-over : fluidité du march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alculer le turn-over macro de la prof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ar chart à rajouter  </a:t>
            </a: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Enquête sur les recrutements en France « palmarès des entreprises qui recrutent en France prévisions 2008 » 9/15 SSII ou sociétés de conseil 3 banqu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igures : Turnover ; recrutement 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768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 rapport aux autres secteurs, on continue à prendre des parts de marché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5235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1447920" y="1219320"/>
            <a:ext cx="7391160" cy="0"/>
          </a:xfrm>
          <a:prstGeom prst="line">
            <a:avLst/>
          </a:prstGeom>
          <a:ln w="34920">
            <a:solidFill>
              <a:srgbClr val="1d1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222040" y="6586560"/>
            <a:ext cx="1150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53D8C634-5950-4C2D-B41C-98EE869B35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575520" y="6477120"/>
            <a:ext cx="2347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ean-Noël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org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3 mai 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129880" y="6491160"/>
            <a:ext cx="129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CAAE-648F-4641-976B-3BB3C9D533C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/5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584160" y="6324480"/>
            <a:ext cx="3341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99"/>
                </a:solidFill>
                <a:latin typeface="Garamond"/>
              </a:rPr>
              <a:t>Jean-Noël Gorge, nov 12th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434960" y="6184800"/>
            <a:ext cx="7467840" cy="0"/>
          </a:xfrm>
          <a:prstGeom prst="line">
            <a:avLst/>
          </a:prstGeom>
          <a:ln w="34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822800" y="6319800"/>
            <a:ext cx="15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607A-663E-447B-8081-FF062B78C1BB}" type="slidenum">
              <a:rPr b="1" lang="en-US" sz="1600" spc="-1" strike="noStrike">
                <a:solidFill>
                  <a:srgbClr val="000099"/>
                </a:solidFill>
                <a:latin typeface="Garamond"/>
              </a:rPr>
              <a:t>&lt;number&gt;</a:t>
            </a:fld>
            <a:r>
              <a:rPr b="1" lang="en-US" sz="1600" spc="-1" strike="noStrike">
                <a:solidFill>
                  <a:srgbClr val="000099"/>
                </a:solidFill>
                <a:latin typeface="Garamond"/>
              </a:rPr>
              <a:t>/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22640" cy="1130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1219320"/>
            <a:ext cx="7391160" cy="0"/>
          </a:xfrm>
          <a:prstGeom prst="line">
            <a:avLst/>
          </a:prstGeom>
          <a:ln w="34920">
            <a:solidFill>
              <a:srgbClr val="1d1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22040" y="6586560"/>
            <a:ext cx="1150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821D8458-3023-44E8-816C-1B67BC9355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75520" y="6477120"/>
            <a:ext cx="2347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ean-Noël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org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3 mai 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129880" y="6491160"/>
            <a:ext cx="129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94EC-FD8C-4C58-9B35-1E4DF4E4334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/5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84160" y="6324480"/>
            <a:ext cx="3341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99"/>
                </a:solidFill>
                <a:latin typeface="Garamond"/>
              </a:rPr>
              <a:t>Jean-Noël Gorge, nov 12th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34960" y="6184800"/>
            <a:ext cx="7467840" cy="0"/>
          </a:xfrm>
          <a:prstGeom prst="line">
            <a:avLst/>
          </a:prstGeom>
          <a:ln w="34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822800" y="6319800"/>
            <a:ext cx="15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9D3B-C7BF-457E-A1D1-4D0E7E960B28}" type="slidenum">
              <a:rPr b="1" lang="en-US" sz="1600" spc="-1" strike="noStrike">
                <a:solidFill>
                  <a:srgbClr val="000099"/>
                </a:solidFill>
                <a:latin typeface="Garamond"/>
              </a:rPr>
              <a:t>&lt;number&gt;</a:t>
            </a:fld>
            <a:r>
              <a:rPr b="1" lang="en-US" sz="1600" spc="-1" strike="noStrike">
                <a:solidFill>
                  <a:srgbClr val="000099"/>
                </a:solidFill>
                <a:latin typeface="Garamond"/>
              </a:rPr>
              <a:t>/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22640" cy="11304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222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dt" idx="1"/>
          </p:nvPr>
        </p:nvSpPr>
        <p:spPr>
          <a:xfrm>
            <a:off x="178920" y="6308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RSION 14.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710560" y="6432480"/>
            <a:ext cx="609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CB87-E425-4FFF-8302-DCC72AC1F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7926480" y="6359400"/>
            <a:ext cx="828720" cy="419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00000" y="1700280"/>
            <a:ext cx="7848720" cy="4392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body"/>
          </p:nvPr>
        </p:nvSpPr>
        <p:spPr>
          <a:xfrm>
            <a:off x="323640" y="1484280"/>
            <a:ext cx="8569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323640" y="333360"/>
            <a:ext cx="8569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e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7e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package" Target="../embeddings/oleObject1.xlsx"/><Relationship Id="rId8" Type="http://schemas.openxmlformats.org/officeDocument/2006/relationships/image" Target="../media/image8.wmf"/><Relationship Id="rId9" Type="http://schemas.openxmlformats.org/officeDocument/2006/relationships/package" Target="../embeddings/oleObject2.xlsx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package" Target="../embeddings/oleObject1.xlsx"/><Relationship Id="rId11" Type="http://schemas.openxmlformats.org/officeDocument/2006/relationships/image" Target="../media/image10.wmf"/><Relationship Id="rId12" Type="http://schemas.openxmlformats.org/officeDocument/2006/relationships/package" Target="../embeddings/oleObject2.xlsx"/><Relationship Id="rId13" Type="http://schemas.openxmlformats.org/officeDocument/2006/relationships/image" Target="../media/image11.wmf"/><Relationship Id="rId14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package" Target="../embeddings/oleObject1.xlsx"/><Relationship Id="rId8" Type="http://schemas.openxmlformats.org/officeDocument/2006/relationships/image" Target="../media/image12.wmf"/><Relationship Id="rId9" Type="http://schemas.openxmlformats.org/officeDocument/2006/relationships/package" Target="../embeddings/oleObject2.xlsx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png"/><Relationship Id="rId9" Type="http://schemas.openxmlformats.org/officeDocument/2006/relationships/image" Target="../media/image2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6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7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8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9.png"/><Relationship Id="rId18" Type="http://schemas.openxmlformats.org/officeDocument/2006/relationships/image" Target="../media/image21.wmf"/><Relationship Id="rId19" Type="http://schemas.openxmlformats.org/officeDocument/2006/relationships/image" Target="../media/image21.wmf"/><Relationship Id="rId20" Type="http://schemas.openxmlformats.org/officeDocument/2006/relationships/image" Target="../media/image22.wmf"/><Relationship Id="rId21" Type="http://schemas.openxmlformats.org/officeDocument/2006/relationships/image" Target="../media/image23.wmf"/><Relationship Id="rId22" Type="http://schemas.openxmlformats.org/officeDocument/2006/relationships/image" Target="../media/image24.wmf"/><Relationship Id="rId23" Type="http://schemas.openxmlformats.org/officeDocument/2006/relationships/image" Target="../media/image25.wmf"/><Relationship Id="rId24" Type="http://schemas.openxmlformats.org/officeDocument/2006/relationships/slideLayout" Target="../slideLayouts/slideLayout3.xml"/><Relationship Id="rId2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600" spc="-1" strike="noStrike">
                <a:solidFill>
                  <a:srgbClr val="000099"/>
                </a:solidFill>
                <a:latin typeface="Tahoma"/>
              </a:rPr>
              <a:t>EPITA</a:t>
            </a:r>
            <a:br>
              <a:rPr sz="3600"/>
            </a:br>
            <a:br>
              <a:rPr sz="3600"/>
            </a:b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IT Markets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Basic Finance and Marketing</a:t>
            </a: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919191"/>
                </a:solidFill>
                <a:latin typeface="Tahoma"/>
              </a:rPr>
              <a:t>Lecture #6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919191"/>
                </a:solidFill>
                <a:latin typeface="Tahoma"/>
              </a:rPr>
              <a:t>Nov 12 2007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919191"/>
                </a:solidFill>
                <a:latin typeface="Tahoma"/>
              </a:rPr>
              <a:t>Jean-Noël GORG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8" name=""/>
          <p:cNvGraphicFramePr/>
          <p:nvPr/>
        </p:nvGraphicFramePr>
        <p:xfrm>
          <a:off x="2700360" y="2550960"/>
          <a:ext cx="6443640" cy="391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550960"/>
                    <a:ext cx="6443640" cy="39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6661080" y="2550960"/>
            <a:ext cx="2228760" cy="375768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9360" y="2089080"/>
          <a:ext cx="5274000" cy="415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60" y="2089080"/>
                    <a:ext cx="527400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200160" y="6610320"/>
            <a:ext cx="40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Arial"/>
              </a:rPr>
              <a:t>Sources : Club TIC IDATE/PAC 2007, Syntec informat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1680" y="1800360"/>
            <a:ext cx="855972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iels et Services : moteurs de la croissance des TIC et de l’économie numérique en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569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e00"/>
                </a:solidFill>
                <a:latin typeface="Arial"/>
              </a:rPr>
              <a:t>Logiciels et Services : une industrie performante </a:t>
            </a:r>
            <a:r>
              <a:rPr b="0" lang="en-US" sz="1400" spc="-1" strike="noStrike">
                <a:solidFill>
                  <a:srgbClr val="ff7e00"/>
                </a:solidFill>
                <a:latin typeface="Arial"/>
              </a:rPr>
              <a:t>(1/2)</a:t>
            </a:r>
            <a:endParaRPr b="0" lang="en-US" sz="1400" spc="-1" strike="noStrike">
              <a:solidFill>
                <a:srgbClr val="ff7e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569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e00"/>
                </a:solidFill>
                <a:latin typeface="Arial"/>
              </a:rPr>
              <a:t>Logiciels et Services : une industrie performante </a:t>
            </a:r>
            <a:r>
              <a:rPr b="0" lang="en-US" sz="1400" spc="-1" strike="noStrike">
                <a:solidFill>
                  <a:srgbClr val="ff7e00"/>
                </a:solidFill>
                <a:latin typeface="Arial"/>
              </a:rPr>
              <a:t>(2/2)</a:t>
            </a:r>
            <a:endParaRPr b="0" lang="en-US" sz="1400" spc="-1" strike="noStrike">
              <a:solidFill>
                <a:srgbClr val="ff7e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24000" y="1757520"/>
            <a:ext cx="882000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e industrie dynamique avec un nombre croissant de créations nettes d’entrepr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16000" y="6564240"/>
            <a:ext cx="892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* Source : IN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539640" y="2529000"/>
          <a:ext cx="6480360" cy="3816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2529000"/>
                    <a:ext cx="648036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6699240" y="2529000"/>
            <a:ext cx="216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8.500 créations nettes</a:t>
            </a:r>
            <a:br>
              <a:rPr sz="1200"/>
            </a:b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en 2006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,4% de la création nette</a:t>
            </a:r>
            <a:br>
              <a:rPr sz="1200"/>
            </a:b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d’entreprises en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337040" y="2654280"/>
            <a:ext cx="1818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4.000 créations nettes</a:t>
            </a:r>
            <a:br>
              <a:rPr sz="1000"/>
            </a:b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en 1997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80808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3,5% de la création nette</a:t>
            </a:r>
            <a:br>
              <a:rPr sz="1000"/>
            </a:b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d’entreprises en Fr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24360" y="3500280"/>
            <a:ext cx="0" cy="16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52360" y="1757520"/>
            <a:ext cx="8820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cteur avec 30 entreprises dans le Top 100 des entreprises qui recrutent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 parmi les 37 entreprises qui recruteront + de 600 cadres en 200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0% des offres d’emploi de cadr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 le Top 100 des entreprises qui recrutent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ès d’1/3 des offres d’emploi de cadres jeunes diplômé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 le Top 100 des entreprises qui recrutent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930920" y="1801800"/>
          <a:ext cx="4930560" cy="26892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30920" y="1801800"/>
                    <a:ext cx="4930560" cy="26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4873680" y="3349800"/>
          <a:ext cx="5340240" cy="291132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73680" y="3349800"/>
                    <a:ext cx="5340240" cy="29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569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e00"/>
                </a:solidFill>
                <a:latin typeface="Arial"/>
              </a:rPr>
              <a:t>Une dynamique forte de recrutement</a:t>
            </a:r>
            <a:endParaRPr b="0" lang="en-US" sz="2800" spc="-1" strike="noStrike">
              <a:solidFill>
                <a:srgbClr val="ff7e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23840" y="6597720"/>
            <a:ext cx="325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*Source : Le Fig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054160" y="6597720"/>
            <a:ext cx="325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**Source : L’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042920" y="6006960"/>
            <a:ext cx="7345440" cy="398880"/>
          </a:xfrm>
          <a:prstGeom prst="rect">
            <a:avLst/>
          </a:prstGeom>
          <a:gradFill rotWithShape="0">
            <a:gsLst>
              <a:gs pos="0">
                <a:srgbClr val="212d3c"/>
              </a:gs>
              <a:gs pos="50000">
                <a:srgbClr val="33455b">
                  <a:alpha val="75294"/>
                </a:srgbClr>
              </a:gs>
              <a:gs pos="100000">
                <a:srgbClr val="212d3c"/>
              </a:gs>
            </a:gsLst>
            <a:lin ang="5400000"/>
          </a:gra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 secteur durablement offreur d’emplois de cad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859280" y="306864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905440" y="500688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507800" y="40971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569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e00"/>
                </a:solidFill>
                <a:latin typeface="Arial"/>
              </a:rPr>
              <a:t>Une  dynamique d’emploi accélérée</a:t>
            </a:r>
            <a:endParaRPr b="0" lang="en-US" sz="3200" spc="-1" strike="noStrike">
              <a:solidFill>
                <a:srgbClr val="ff7e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569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spcAft>
                <a:spcPts val="49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rutement toujours proact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5 000 collaborateurs recrutés en 2007 dont environ 20 000 créations net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spcAft>
                <a:spcPts val="49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ien d’une tension sur des profils et compét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chitectes techniques ou de systèmes d’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erci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ultants fonctionnels ER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ultants sécurité,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génieurs systèmes et rése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éveloppe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étiers du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écialistes des environnements java, J2EE, nouvelles techn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spcAft>
                <a:spcPts val="49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élération du turn-over vers les cl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1240" y="6545160"/>
            <a:ext cx="36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Source : Observatoire social Syntec informat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98280" y="1699920"/>
            <a:ext cx="8893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24"/>
              </a:spcBef>
              <a:spcAft>
                <a:spcPts val="62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ès forte prédominance des CDI (97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24"/>
              </a:spcBef>
              <a:spcAft>
                <a:spcPts val="62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veloppement de l’apprentissage et des contrats de professionna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24"/>
              </a:spcBef>
              <a:spcAft>
                <a:spcPts val="62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yenne d’âge de 34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24"/>
              </a:spcBef>
              <a:spcAft>
                <a:spcPts val="62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% de nos collaborateurs ont plus de 10 ans d’ancienne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24"/>
              </a:spcBef>
              <a:spcAft>
                <a:spcPts val="62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gmentation moyenne des rémunérations de 3,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24"/>
              </a:spcBef>
              <a:spcAft>
                <a:spcPts val="624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idité du marché de l’empl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79280" y="333360"/>
            <a:ext cx="8713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e00"/>
                </a:solidFill>
                <a:latin typeface="Arial"/>
              </a:rPr>
              <a:t>Observatoire social</a:t>
            </a:r>
            <a:br>
              <a:rPr sz="3200"/>
            </a:br>
            <a:r>
              <a:rPr b="0" lang="en-US" sz="3200" spc="-1" strike="noStrike">
                <a:solidFill>
                  <a:srgbClr val="ff7e00"/>
                </a:solidFill>
                <a:latin typeface="Arial"/>
              </a:rPr>
              <a:t>Syntec informatique 2005 (1/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8680" y="6497640"/>
            <a:ext cx="131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Source :</a:t>
            </a:r>
            <a:r>
              <a:rPr b="1" i="1" lang="fr-FR" sz="1000" spc="-1" strike="noStrike">
                <a:solidFill>
                  <a:srgbClr val="000000"/>
                </a:solidFill>
                <a:latin typeface="Arial"/>
              </a:rPr>
              <a:t> Oberth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24000" y="1714680"/>
            <a:ext cx="856908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te baisse du nombre d’informaticiens demandeurs d’emploi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spcAft>
                <a:spcPts val="150"/>
              </a:spcAft>
              <a:buSzPct val="10242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minution plus rapide du chômage dans le sect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569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e00"/>
                </a:solidFill>
                <a:latin typeface="Arial"/>
              </a:rPr>
              <a:t>Une dynamique pour le retour à l’emploi des informaticiens</a:t>
            </a:r>
            <a:endParaRPr b="0" lang="en-US" sz="2800" spc="-1" strike="noStrike">
              <a:solidFill>
                <a:srgbClr val="ff7e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4920" y="6576840"/>
            <a:ext cx="27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*Source : Syntec informatique, AN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495360" y="2030400"/>
          <a:ext cx="4019400" cy="2355840"/>
        </p:xfrm>
        <a:graphic>
          <a:graphicData uri="http://schemas.openxmlformats.org/presentationml/2006/ole">
            <p:oleObj progId="Excel.Sheet.12" r:id="rId10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95360" y="2030400"/>
                    <a:ext cx="4019400" cy="23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4281480" y="2060640"/>
          <a:ext cx="4819680" cy="2017800"/>
        </p:xfrm>
        <a:graphic>
          <a:graphicData uri="http://schemas.openxmlformats.org/presentationml/2006/ole">
            <p:oleObj progId="Excel.Sheet.12" r:id="rId12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281480" y="2060640"/>
                    <a:ext cx="4819680" cy="20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3154320" y="6605640"/>
            <a:ext cx="219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**Source : IN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61720" y="5300640"/>
            <a:ext cx="247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ux de chômage France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987480" y="5380200"/>
            <a:ext cx="125280" cy="126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87480" y="5699160"/>
            <a:ext cx="125280" cy="125280"/>
          </a:xfrm>
          <a:prstGeom prst="rect">
            <a:avLst/>
          </a:prstGeom>
          <a:gradFill rotWithShape="0">
            <a:gsLst>
              <a:gs pos="0">
                <a:srgbClr val="c17300"/>
              </a:gs>
              <a:gs pos="50000">
                <a:srgbClr val="ff9900"/>
              </a:gs>
              <a:gs pos="100000">
                <a:srgbClr val="c17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58840" y="5619600"/>
            <a:ext cx="3615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ux de chômage Logiciels et Services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340320" y="6458040"/>
            <a:ext cx="1455840" cy="360"/>
          </a:xfrm>
          <a:prstGeom prst="line">
            <a:avLst/>
          </a:prstGeom>
          <a:noFill/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454720" y="4703760"/>
            <a:ext cx="1154160" cy="1144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52440" y="473220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035760" y="6029280"/>
            <a:ext cx="59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1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622920" y="4849920"/>
            <a:ext cx="459000" cy="16081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808080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081920" y="6253200"/>
            <a:ext cx="522360" cy="204840"/>
          </a:xfrm>
          <a:prstGeom prst="rect">
            <a:avLst/>
          </a:prstGeom>
          <a:gradFill rotWithShape="0">
            <a:gsLst>
              <a:gs pos="0">
                <a:srgbClr val="c17300"/>
              </a:gs>
              <a:gs pos="50000">
                <a:srgbClr val="ff9900"/>
              </a:gs>
              <a:gs pos="100000">
                <a:srgbClr val="c17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680520" y="4849920"/>
            <a:ext cx="40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,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357440" y="634212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790320" y="6492960"/>
            <a:ext cx="57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uin-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964120" y="6000840"/>
            <a:ext cx="1122480" cy="1080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145280" y="6232680"/>
            <a:ext cx="405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,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664160" y="6458040"/>
            <a:ext cx="1455480" cy="360"/>
          </a:xfrm>
          <a:prstGeom prst="line">
            <a:avLst/>
          </a:prstGeom>
          <a:noFill/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962600" y="4849920"/>
            <a:ext cx="442800" cy="16081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808080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405400" y="6192720"/>
            <a:ext cx="522360" cy="265320"/>
          </a:xfrm>
          <a:prstGeom prst="rect">
            <a:avLst/>
          </a:prstGeom>
          <a:gradFill rotWithShape="0">
            <a:gsLst>
              <a:gs pos="0">
                <a:srgbClr val="c17300"/>
              </a:gs>
              <a:gs pos="50000">
                <a:srgbClr val="ff9900"/>
              </a:gs>
              <a:gs pos="100000">
                <a:srgbClr val="c17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849920"/>
            <a:ext cx="40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,7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167080" y="6492960"/>
            <a:ext cx="564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éc-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468760" y="6232680"/>
            <a:ext cx="405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,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311040" y="1790640"/>
            <a:ext cx="8569440" cy="48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 besoins toujours plus nombreux de la part des entreprises et administ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no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e tendance de fo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à « l’externalisation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sme technolog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 technologie ouvre des champs d’application nouveaux tous les j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569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e00"/>
                </a:solidFill>
                <a:latin typeface="Arial"/>
              </a:rPr>
              <a:t>Logiciels &amp; Services : </a:t>
            </a:r>
            <a:br>
              <a:rPr sz="3200"/>
            </a:br>
            <a:r>
              <a:rPr b="0" lang="en-US" sz="3200" spc="-1" strike="noStrike">
                <a:solidFill>
                  <a:srgbClr val="ff7e00"/>
                </a:solidFill>
                <a:latin typeface="Arial"/>
              </a:rPr>
              <a:t>Une croissance pérenne (1/2)</a:t>
            </a:r>
            <a:endParaRPr b="0" lang="en-US" sz="3200" spc="-1" strike="noStrike">
              <a:solidFill>
                <a:srgbClr val="ff7e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50560" y="1843200"/>
            <a:ext cx="85690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85840" y="6613560"/>
            <a:ext cx="50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ource : PAC, analyse Syntec informat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3317760" y="2284560"/>
            <a:ext cx="4010040" cy="3057480"/>
            <a:chOff x="3317760" y="2284560"/>
            <a:chExt cx="4010040" cy="3057480"/>
          </a:xfrm>
        </p:grpSpPr>
        <p:graphicFrame>
          <p:nvGraphicFramePr>
            <p:cNvPr id="346" name=""/>
            <p:cNvGraphicFramePr/>
            <p:nvPr/>
          </p:nvGraphicFramePr>
          <p:xfrm>
            <a:off x="3317760" y="2741760"/>
            <a:ext cx="4010040" cy="2600280"/>
          </p:xfrm>
          <a:graphic>
            <a:graphicData uri="http://schemas.openxmlformats.org/presentationml/2006/ole">
              <p:oleObj progId="Excel.Sheet.12" r:id="rId7" spid="">
                <p:embed/>
                <p:pic>
                  <p:nvPicPr>
                    <p:cNvPr id="34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317760" y="2741760"/>
                      <a:ext cx="4010040" cy="26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8" name=""/>
            <p:cNvSpPr/>
            <p:nvPr/>
          </p:nvSpPr>
          <p:spPr>
            <a:xfrm>
              <a:off x="3860640" y="2284560"/>
              <a:ext cx="257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6934320" y="2284560"/>
            <a:ext cx="2173320" cy="3132000"/>
            <a:chOff x="6934320" y="2284560"/>
            <a:chExt cx="2173320" cy="3132000"/>
          </a:xfrm>
        </p:grpSpPr>
        <p:graphicFrame>
          <p:nvGraphicFramePr>
            <p:cNvPr id="350" name=""/>
            <p:cNvGraphicFramePr/>
            <p:nvPr/>
          </p:nvGraphicFramePr>
          <p:xfrm>
            <a:off x="6934320" y="2700360"/>
            <a:ext cx="2173320" cy="2716200"/>
          </p:xfrm>
          <a:graphic>
            <a:graphicData uri="http://schemas.openxmlformats.org/presentationml/2006/ole">
              <p:oleObj progId="Excel.Sheet.12" r:id="rId9" spid="">
                <p:embed/>
                <p:pic>
                  <p:nvPicPr>
                    <p:cNvPr id="35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934320" y="2700360"/>
                      <a:ext cx="2173320" cy="271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2" name=""/>
            <p:cNvSpPr/>
            <p:nvPr/>
          </p:nvSpPr>
          <p:spPr>
            <a:xfrm>
              <a:off x="7627680" y="228456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1042920" y="5896080"/>
            <a:ext cx="7345440" cy="398880"/>
          </a:xfrm>
          <a:prstGeom prst="rect">
            <a:avLst/>
          </a:prstGeom>
          <a:gradFill rotWithShape="0">
            <a:gsLst>
              <a:gs pos="0">
                <a:srgbClr val="212d3c"/>
              </a:gs>
              <a:gs pos="50000">
                <a:srgbClr val="33455b">
                  <a:alpha val="75294"/>
                </a:srgbClr>
              </a:gs>
              <a:gs pos="100000">
                <a:srgbClr val="212d3c"/>
              </a:gs>
            </a:gsLst>
            <a:lin ang="5400000"/>
          </a:gra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 moteurs puissants et péren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79280" y="333360"/>
            <a:ext cx="84200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24000" y="1484280"/>
            <a:ext cx="856908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569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e00"/>
                </a:solidFill>
                <a:latin typeface="Arial"/>
              </a:rPr>
              <a:t>Logiciels &amp; Services : </a:t>
            </a:r>
            <a:br>
              <a:rPr sz="3200"/>
            </a:br>
            <a:r>
              <a:rPr b="0" lang="en-US" sz="3200" spc="-1" strike="noStrike">
                <a:solidFill>
                  <a:srgbClr val="ff7e00"/>
                </a:solidFill>
                <a:latin typeface="Arial"/>
              </a:rPr>
              <a:t>une croissance pérenne (2/2)</a:t>
            </a:r>
            <a:endParaRPr b="0" lang="en-US" sz="3200" spc="-1" strike="noStrike">
              <a:solidFill>
                <a:srgbClr val="ff7e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971640" y="5904000"/>
            <a:ext cx="7527960" cy="368280"/>
          </a:xfrm>
          <a:prstGeom prst="rect">
            <a:avLst/>
          </a:prstGeom>
          <a:gradFill rotWithShape="0">
            <a:gsLst>
              <a:gs pos="0">
                <a:srgbClr val="212d3c"/>
              </a:gs>
              <a:gs pos="50000">
                <a:srgbClr val="33455b">
                  <a:alpha val="75294"/>
                </a:srgbClr>
              </a:gs>
              <a:gs pos="100000">
                <a:srgbClr val="212d3c"/>
              </a:gs>
            </a:gsLst>
            <a:lin ang="5400000"/>
          </a:gra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8 : une croissance soutenue comparable à celle de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37960" y="6597720"/>
            <a:ext cx="361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Source : Syntec informat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436680" y="1781280"/>
          <a:ext cx="8116920" cy="416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680" y="1781280"/>
                    <a:ext cx="8116920" cy="41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179280" y="333360"/>
            <a:ext cx="896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e00"/>
                </a:solidFill>
                <a:latin typeface="Arial"/>
              </a:rPr>
              <a:t>SOA : un alignement sans « big bang »</a:t>
            </a:r>
            <a:br>
              <a:rPr sz="3200"/>
            </a:br>
            <a:r>
              <a:rPr b="0" lang="en-US" sz="3200" spc="-1" strike="noStrike">
                <a:solidFill>
                  <a:srgbClr val="ff7e00"/>
                </a:solidFill>
                <a:latin typeface="Arial"/>
              </a:rPr>
              <a:t>du SI sur le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24000" y="1557360"/>
            <a:ext cx="85690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spcAft>
                <a:spcPts val="62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v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alogue / collaboration entre services (agents intelligen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2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hérence orientée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80000"/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rbanisation du SI fondée sur un raisonnement « processus utilisateurs 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2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opérabi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80000"/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sibilité de pérenniser ses applications existantes en les faisant communiquer avec une plateforme SO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2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volutiv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sibilité de réutilisation des briques logicielles sous forme de composants pour développer d’autres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23640" y="5445000"/>
            <a:ext cx="8497800" cy="8416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d9edef"/>
              </a:gs>
              <a:gs pos="100000">
                <a:srgbClr val="bbe0e3"/>
              </a:gs>
            </a:gsLst>
            <a:lin ang="10800000"/>
          </a:gradFill>
          <a:ln w="19080">
            <a:solidFill>
              <a:srgbClr val="ff6600"/>
            </a:solidFill>
            <a:miter/>
          </a:ln>
        </p:spPr>
        <p:txBody>
          <a:bodyPr anchor="t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placement des métiers vers l’assemblage de servic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 la connaissance des clients  →  création de valeur</a:t>
            </a:r>
            <a:endParaRPr b="0" lang="en-US" sz="2400" spc="-1" strike="noStrike">
              <a:solidFill>
                <a:srgbClr val="ff7e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IT and large corporations </a:t>
            </a:r>
            <a:br>
              <a:rPr sz="3200"/>
            </a:b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(Cigref etc.)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Previous week V.I.P.</a:t>
            </a:r>
            <a:br>
              <a:rPr sz="3200"/>
            </a:br>
            <a:r>
              <a:rPr b="1" lang="fr-FR" sz="2000" spc="-1" strike="noStrike">
                <a:solidFill>
                  <a:srgbClr val="000099"/>
                </a:solidFill>
                <a:latin typeface="Tahoma"/>
              </a:rPr>
              <a:t>(Very Important Points)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68000" y="259920"/>
            <a:ext cx="687564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T : a daily challenge (internal)  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609480" y="1487520"/>
            <a:ext cx="7656480" cy="48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T : a daily challenge (internal)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olleagues and other employees are 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with extremely diverse IT expert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with extremely diverse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Cl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One way or another, they pay for IT resources an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Extremely diverse expectations in terms of IT added value to their own challe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40000" y="259920"/>
            <a:ext cx="68040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T : a daily challenge (external)</a:t>
            </a:r>
            <a:endParaRPr b="1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2286000" y="2133360"/>
            <a:ext cx="4671360" cy="533520"/>
            <a:chOff x="2286000" y="2133360"/>
            <a:chExt cx="4671360" cy="533520"/>
          </a:xfrm>
        </p:grpSpPr>
        <p:graphicFrame>
          <p:nvGraphicFramePr>
            <p:cNvPr id="372" name=""/>
            <p:cNvGraphicFramePr/>
            <p:nvPr/>
          </p:nvGraphicFramePr>
          <p:xfrm>
            <a:off x="3420000" y="2266560"/>
            <a:ext cx="400320" cy="260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420000" y="2266560"/>
                      <a:ext cx="400320" cy="26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4" name=""/>
            <p:cNvSpPr/>
            <p:nvPr/>
          </p:nvSpPr>
          <p:spPr>
            <a:xfrm>
              <a:off x="3738240" y="2133720"/>
              <a:ext cx="285480" cy="533160"/>
            </a:xfrm>
            <a:prstGeom prst="downArrow">
              <a:avLst>
                <a:gd name="adj1" fmla="val 50000"/>
                <a:gd name="adj2" fmla="val 64977"/>
              </a:avLst>
            </a:prstGeom>
            <a:solidFill>
              <a:srgbClr val="ccff99">
                <a:alpha val="50000"/>
              </a:srgbClr>
            </a:solidFill>
            <a:ln w="93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3928680" y="2133000"/>
              <a:ext cx="284400" cy="533160"/>
            </a:xfrm>
            <a:prstGeom prst="downArrow">
              <a:avLst>
                <a:gd name="adj1" fmla="val 50000"/>
                <a:gd name="adj2" fmla="val 65223"/>
              </a:avLst>
            </a:prstGeom>
            <a:solidFill>
              <a:srgbClr val="ccff99">
                <a:alpha val="50000"/>
              </a:srgbClr>
            </a:solidFill>
            <a:ln w="93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850920" y="2349360"/>
              <a:ext cx="403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AX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77" name=""/>
            <p:cNvGraphicFramePr/>
            <p:nvPr/>
          </p:nvGraphicFramePr>
          <p:xfrm>
            <a:off x="4452480" y="2266560"/>
            <a:ext cx="398880" cy="260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7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452480" y="2266560"/>
                      <a:ext cx="398880" cy="26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9" name=""/>
            <p:cNvSpPr/>
            <p:nvPr/>
          </p:nvSpPr>
          <p:spPr>
            <a:xfrm>
              <a:off x="4811400" y="2133720"/>
              <a:ext cx="285480" cy="533160"/>
            </a:xfrm>
            <a:prstGeom prst="downArrow">
              <a:avLst>
                <a:gd name="adj1" fmla="val 50000"/>
                <a:gd name="adj2" fmla="val 64977"/>
              </a:avLst>
            </a:prstGeom>
            <a:solidFill>
              <a:srgbClr val="ccff99">
                <a:alpha val="50000"/>
              </a:srgbClr>
            </a:solidFill>
            <a:ln w="93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5001480" y="2133000"/>
              <a:ext cx="284400" cy="533160"/>
            </a:xfrm>
            <a:prstGeom prst="downArrow">
              <a:avLst>
                <a:gd name="adj1" fmla="val 50000"/>
                <a:gd name="adj2" fmla="val 65223"/>
              </a:avLst>
            </a:prstGeom>
            <a:solidFill>
              <a:srgbClr val="ccff99">
                <a:alpha val="50000"/>
              </a:srgbClr>
            </a:solidFill>
            <a:ln w="93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794480" y="2349360"/>
              <a:ext cx="935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ESSAGERI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82" name=""/>
            <p:cNvGraphicFramePr/>
            <p:nvPr/>
          </p:nvGraphicFramePr>
          <p:xfrm>
            <a:off x="5667840" y="2285640"/>
            <a:ext cx="398880" cy="234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8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67840" y="2285640"/>
                      <a:ext cx="398880" cy="23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4" name=""/>
            <p:cNvSpPr/>
            <p:nvPr/>
          </p:nvSpPr>
          <p:spPr>
            <a:xfrm>
              <a:off x="6019920" y="2133720"/>
              <a:ext cx="285480" cy="533160"/>
            </a:xfrm>
            <a:prstGeom prst="downArrow">
              <a:avLst>
                <a:gd name="adj1" fmla="val 50000"/>
                <a:gd name="adj2" fmla="val 64977"/>
              </a:avLst>
            </a:prstGeom>
            <a:solidFill>
              <a:srgbClr val="ccff99">
                <a:alpha val="50000"/>
              </a:srgbClr>
            </a:solidFill>
            <a:ln w="93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6210000" y="2133000"/>
              <a:ext cx="285480" cy="533160"/>
            </a:xfrm>
            <a:prstGeom prst="downArrow">
              <a:avLst>
                <a:gd name="adj1" fmla="val 50000"/>
                <a:gd name="adj2" fmla="val 64977"/>
              </a:avLst>
            </a:prstGeom>
            <a:solidFill>
              <a:srgbClr val="ccff99">
                <a:alpha val="50000"/>
              </a:srgbClr>
            </a:solidFill>
            <a:ln w="93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952240" y="2349360"/>
              <a:ext cx="1005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ORMULAIR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87" name=""/>
            <p:cNvGraphicFramePr/>
            <p:nvPr/>
          </p:nvGraphicFramePr>
          <p:xfrm>
            <a:off x="2286000" y="2266560"/>
            <a:ext cx="398880" cy="260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8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286000" y="2266560"/>
                      <a:ext cx="398880" cy="26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9" name=""/>
            <p:cNvSpPr/>
            <p:nvPr/>
          </p:nvSpPr>
          <p:spPr>
            <a:xfrm>
              <a:off x="2636640" y="2133720"/>
              <a:ext cx="283320" cy="533160"/>
            </a:xfrm>
            <a:prstGeom prst="downArrow">
              <a:avLst>
                <a:gd name="adj1" fmla="val 50000"/>
                <a:gd name="adj2" fmla="val 65472"/>
              </a:avLst>
            </a:prstGeom>
            <a:solidFill>
              <a:srgbClr val="ccff99">
                <a:alpha val="50000"/>
              </a:srgbClr>
            </a:solidFill>
            <a:ln w="93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2826000" y="2133000"/>
              <a:ext cx="284400" cy="533160"/>
            </a:xfrm>
            <a:prstGeom prst="downArrow">
              <a:avLst>
                <a:gd name="adj1" fmla="val 50000"/>
                <a:gd name="adj2" fmla="val 65223"/>
              </a:avLst>
            </a:prstGeom>
            <a:solidFill>
              <a:srgbClr val="ccff99">
                <a:alpha val="50000"/>
              </a:srgbClr>
            </a:solidFill>
            <a:ln w="93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590560" y="2349360"/>
              <a:ext cx="872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ELEPHON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2" name="" descr=""/>
          <p:cNvPicPr/>
          <p:nvPr/>
        </p:nvPicPr>
        <p:blipFill>
          <a:blip r:embed="rId9"/>
          <a:stretch/>
        </p:blipFill>
        <p:spPr>
          <a:xfrm>
            <a:off x="2995560" y="2743200"/>
            <a:ext cx="3176640" cy="2013120"/>
          </a:xfrm>
          <a:prstGeom prst="rect">
            <a:avLst/>
          </a:prstGeom>
          <a:ln w="0">
            <a:noFill/>
          </a:ln>
        </p:spPr>
      </p:pic>
      <p:grpSp>
        <p:nvGrpSpPr>
          <p:cNvPr id="393" name=""/>
          <p:cNvGrpSpPr/>
          <p:nvPr/>
        </p:nvGrpSpPr>
        <p:grpSpPr>
          <a:xfrm>
            <a:off x="2286000" y="4800600"/>
            <a:ext cx="4671360" cy="533520"/>
            <a:chOff x="2286000" y="4800600"/>
            <a:chExt cx="4671360" cy="533520"/>
          </a:xfrm>
        </p:grpSpPr>
        <p:graphicFrame>
          <p:nvGraphicFramePr>
            <p:cNvPr id="394" name=""/>
            <p:cNvGraphicFramePr/>
            <p:nvPr/>
          </p:nvGraphicFramePr>
          <p:xfrm>
            <a:off x="3420000" y="4933800"/>
            <a:ext cx="400320" cy="2602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9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420000" y="4933800"/>
                      <a:ext cx="400320" cy="26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6" name=""/>
            <p:cNvSpPr/>
            <p:nvPr/>
          </p:nvSpPr>
          <p:spPr>
            <a:xfrm>
              <a:off x="3738240" y="4800600"/>
              <a:ext cx="285480" cy="533520"/>
            </a:xfrm>
            <a:prstGeom prst="downArrow">
              <a:avLst>
                <a:gd name="adj1" fmla="val 50000"/>
                <a:gd name="adj2" fmla="val 65020"/>
              </a:avLst>
            </a:prstGeom>
            <a:solidFill>
              <a:srgbClr val="ccff99">
                <a:alpha val="50000"/>
              </a:srgbClr>
            </a:solidFill>
            <a:ln w="93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3928680" y="4800600"/>
              <a:ext cx="284400" cy="533520"/>
            </a:xfrm>
            <a:prstGeom prst="downArrow">
              <a:avLst>
                <a:gd name="adj1" fmla="val 50000"/>
                <a:gd name="adj2" fmla="val 65267"/>
              </a:avLst>
            </a:prstGeom>
            <a:solidFill>
              <a:srgbClr val="ccff99">
                <a:alpha val="50000"/>
              </a:srgbClr>
            </a:solidFill>
            <a:ln w="93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850920" y="5016240"/>
              <a:ext cx="403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AX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99" name=""/>
            <p:cNvGraphicFramePr/>
            <p:nvPr/>
          </p:nvGraphicFramePr>
          <p:xfrm>
            <a:off x="4452480" y="4933800"/>
            <a:ext cx="398880" cy="2602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400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452480" y="4933800"/>
                      <a:ext cx="398880" cy="26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1" name=""/>
            <p:cNvSpPr/>
            <p:nvPr/>
          </p:nvSpPr>
          <p:spPr>
            <a:xfrm>
              <a:off x="4811400" y="4800600"/>
              <a:ext cx="285480" cy="533520"/>
            </a:xfrm>
            <a:prstGeom prst="downArrow">
              <a:avLst>
                <a:gd name="adj1" fmla="val 50000"/>
                <a:gd name="adj2" fmla="val 65020"/>
              </a:avLst>
            </a:prstGeom>
            <a:solidFill>
              <a:srgbClr val="ccff99">
                <a:alpha val="50000"/>
              </a:srgbClr>
            </a:solidFill>
            <a:ln w="93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5001480" y="4800600"/>
              <a:ext cx="284400" cy="533520"/>
            </a:xfrm>
            <a:prstGeom prst="downArrow">
              <a:avLst>
                <a:gd name="adj1" fmla="val 50000"/>
                <a:gd name="adj2" fmla="val 65267"/>
              </a:avLst>
            </a:prstGeom>
            <a:solidFill>
              <a:srgbClr val="ccff99">
                <a:alpha val="50000"/>
              </a:srgbClr>
            </a:solidFill>
            <a:ln w="93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794480" y="5016240"/>
              <a:ext cx="935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ESSAGERI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04" name=""/>
            <p:cNvGraphicFramePr/>
            <p:nvPr/>
          </p:nvGraphicFramePr>
          <p:xfrm>
            <a:off x="5667840" y="4952520"/>
            <a:ext cx="398880" cy="23472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405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5667840" y="4952520"/>
                      <a:ext cx="398880" cy="23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6" name=""/>
            <p:cNvSpPr/>
            <p:nvPr/>
          </p:nvSpPr>
          <p:spPr>
            <a:xfrm>
              <a:off x="6019920" y="4800600"/>
              <a:ext cx="285480" cy="533520"/>
            </a:xfrm>
            <a:prstGeom prst="downArrow">
              <a:avLst>
                <a:gd name="adj1" fmla="val 50000"/>
                <a:gd name="adj2" fmla="val 65020"/>
              </a:avLst>
            </a:prstGeom>
            <a:solidFill>
              <a:srgbClr val="ccff99">
                <a:alpha val="50000"/>
              </a:srgbClr>
            </a:solidFill>
            <a:ln w="93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6210000" y="4800600"/>
              <a:ext cx="285480" cy="533520"/>
            </a:xfrm>
            <a:prstGeom prst="downArrow">
              <a:avLst>
                <a:gd name="adj1" fmla="val 50000"/>
                <a:gd name="adj2" fmla="val 65020"/>
              </a:avLst>
            </a:prstGeom>
            <a:solidFill>
              <a:srgbClr val="ccff99">
                <a:alpha val="50000"/>
              </a:srgbClr>
            </a:solidFill>
            <a:ln w="93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952240" y="5016240"/>
              <a:ext cx="1005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ORMULAIR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09" name=""/>
            <p:cNvGraphicFramePr/>
            <p:nvPr/>
          </p:nvGraphicFramePr>
          <p:xfrm>
            <a:off x="2286000" y="4933800"/>
            <a:ext cx="398880" cy="26028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410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2286000" y="4933800"/>
                      <a:ext cx="398880" cy="26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11" name=""/>
            <p:cNvSpPr/>
            <p:nvPr/>
          </p:nvSpPr>
          <p:spPr>
            <a:xfrm>
              <a:off x="2636640" y="4800600"/>
              <a:ext cx="283320" cy="533520"/>
            </a:xfrm>
            <a:prstGeom prst="downArrow">
              <a:avLst>
                <a:gd name="adj1" fmla="val 50000"/>
                <a:gd name="adj2" fmla="val 65516"/>
              </a:avLst>
            </a:prstGeom>
            <a:solidFill>
              <a:srgbClr val="ccff99">
                <a:alpha val="50000"/>
              </a:srgbClr>
            </a:solidFill>
            <a:ln w="93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2826000" y="4800600"/>
              <a:ext cx="284400" cy="533520"/>
            </a:xfrm>
            <a:prstGeom prst="downArrow">
              <a:avLst>
                <a:gd name="adj1" fmla="val 50000"/>
                <a:gd name="adj2" fmla="val 65267"/>
              </a:avLst>
            </a:prstGeom>
            <a:solidFill>
              <a:srgbClr val="ccff99">
                <a:alpha val="50000"/>
              </a:srgbClr>
            </a:solidFill>
            <a:ln w="93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590560" y="5016240"/>
              <a:ext cx="872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ELEPHON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4" name="" descr=""/>
          <p:cNvPicPr/>
          <p:nvPr/>
        </p:nvPicPr>
        <p:blipFill>
          <a:blip r:embed="rId18"/>
          <a:stretch/>
        </p:blipFill>
        <p:spPr>
          <a:xfrm>
            <a:off x="1822320" y="2590920"/>
            <a:ext cx="692280" cy="243828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19"/>
          <a:stretch/>
        </p:blipFill>
        <p:spPr>
          <a:xfrm>
            <a:off x="6629400" y="2590920"/>
            <a:ext cx="692280" cy="243828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0"/>
          <a:stretch/>
        </p:blipFill>
        <p:spPr>
          <a:xfrm>
            <a:off x="914400" y="1828800"/>
            <a:ext cx="974880" cy="364644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21"/>
          <a:stretch/>
        </p:blipFill>
        <p:spPr>
          <a:xfrm>
            <a:off x="7238880" y="1905120"/>
            <a:ext cx="1067040" cy="364644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22"/>
          <a:stretch/>
        </p:blipFill>
        <p:spPr>
          <a:xfrm>
            <a:off x="2666880" y="1371600"/>
            <a:ext cx="3646440" cy="82224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3"/>
          <a:stretch/>
        </p:blipFill>
        <p:spPr>
          <a:xfrm>
            <a:off x="2590920" y="5257800"/>
            <a:ext cx="364644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T : a daily challenge (external)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ll large corporation are IT dependant on a daily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perational basi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Business “partners” 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Cl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uppl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Gover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Ba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Lawyers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IT added value 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1447920" y="1727280"/>
            <a:ext cx="746748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2971800" y="2362320"/>
            <a:ext cx="0" cy="3733560"/>
          </a:xfrm>
          <a:prstGeom prst="line">
            <a:avLst/>
          </a:prstGeom>
          <a:ln w="38160">
            <a:solidFill>
              <a:srgbClr val="618ffd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508200" y="24480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371600" y="2971800"/>
            <a:ext cx="1752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434040" y="1965240"/>
            <a:ext cx="15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Company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Digital times IT systems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5029200" y="2038320"/>
            <a:ext cx="1638360" cy="4199040"/>
            <a:chOff x="5029200" y="2038320"/>
            <a:chExt cx="1638360" cy="4199040"/>
          </a:xfrm>
        </p:grpSpPr>
        <p:sp>
          <p:nvSpPr>
            <p:cNvPr id="430" name=""/>
            <p:cNvSpPr/>
            <p:nvPr/>
          </p:nvSpPr>
          <p:spPr>
            <a:xfrm>
              <a:off x="5143680" y="2656080"/>
              <a:ext cx="1447560" cy="0"/>
            </a:xfrm>
            <a:prstGeom prst="line">
              <a:avLst/>
            </a:prstGeom>
            <a:ln w="19080">
              <a:solidFill>
                <a:srgbClr val="1d13e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029200" y="3189240"/>
              <a:ext cx="1447920" cy="0"/>
            </a:xfrm>
            <a:prstGeom prst="line">
              <a:avLst/>
            </a:prstGeom>
            <a:ln w="19080">
              <a:solidFill>
                <a:srgbClr val="00ae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029200" y="3722760"/>
              <a:ext cx="1447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029200" y="4256280"/>
              <a:ext cx="1447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029200" y="4789440"/>
              <a:ext cx="1447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05520" y="5246640"/>
              <a:ext cx="1447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105520" y="5780160"/>
              <a:ext cx="1447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067360" y="2732040"/>
              <a:ext cx="1600200" cy="381240"/>
            </a:xfrm>
            <a:prstGeom prst="line">
              <a:avLst/>
            </a:prstGeom>
            <a:ln w="19080">
              <a:solidFill>
                <a:srgbClr val="1d13e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67360" y="2808360"/>
              <a:ext cx="1600200" cy="685800"/>
            </a:xfrm>
            <a:prstGeom prst="line">
              <a:avLst/>
            </a:prstGeom>
            <a:ln w="19080">
              <a:solidFill>
                <a:srgbClr val="1d13e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105520" y="2884680"/>
              <a:ext cx="1523880" cy="1295280"/>
            </a:xfrm>
            <a:prstGeom prst="line">
              <a:avLst/>
            </a:prstGeom>
            <a:ln w="19080">
              <a:solidFill>
                <a:srgbClr val="1d13e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05520" y="2046240"/>
              <a:ext cx="1371600" cy="4191120"/>
            </a:xfrm>
            <a:prstGeom prst="ellipse">
              <a:avLst/>
            </a:prstGeom>
            <a:noFill/>
            <a:ln w="25560">
              <a:solidFill>
                <a:srgbClr val="618ff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279760" y="2038320"/>
              <a:ext cx="1021680" cy="458280"/>
            </a:xfrm>
            <a:prstGeom prst="rect">
              <a:avLst/>
            </a:prstGeom>
            <a:noFill/>
            <a:ln w="93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618ffd"/>
                  </a:solidFill>
                  <a:latin typeface="Tahoma"/>
                </a:rPr>
                <a:t>xxN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2971800" y="1219320"/>
            <a:ext cx="5543280" cy="4876200"/>
            <a:chOff x="2971800" y="1219320"/>
            <a:chExt cx="5543280" cy="4876200"/>
          </a:xfrm>
        </p:grpSpPr>
        <p:sp>
          <p:nvSpPr>
            <p:cNvPr id="443" name=""/>
            <p:cNvSpPr/>
            <p:nvPr/>
          </p:nvSpPr>
          <p:spPr>
            <a:xfrm>
              <a:off x="3809880" y="1904760"/>
              <a:ext cx="3733920" cy="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858000" y="5562360"/>
              <a:ext cx="1600200" cy="53316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858000" y="2361960"/>
              <a:ext cx="1600200" cy="533160"/>
            </a:xfrm>
            <a:prstGeom prst="rect">
              <a:avLst/>
            </a:prstGeom>
            <a:solidFill>
              <a:srgbClr val="1d13e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858000" y="2895480"/>
              <a:ext cx="1600200" cy="533160"/>
            </a:xfrm>
            <a:prstGeom prst="rect">
              <a:avLst/>
            </a:prstGeom>
            <a:solidFill>
              <a:srgbClr val="00ae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858000" y="3429000"/>
              <a:ext cx="1600200" cy="532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858000" y="3962160"/>
              <a:ext cx="1600200" cy="533160"/>
            </a:xfrm>
            <a:prstGeom prst="rect">
              <a:avLst/>
            </a:prstGeom>
            <a:solidFill>
              <a:srgbClr val="1d13e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858000" y="4495680"/>
              <a:ext cx="1600200" cy="533160"/>
            </a:xfrm>
            <a:prstGeom prst="rect">
              <a:avLst/>
            </a:prstGeom>
            <a:solidFill>
              <a:srgbClr val="91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858000" y="5029200"/>
              <a:ext cx="1600200" cy="53280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033320" y="2417760"/>
              <a:ext cx="1268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ncep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042320" y="2965320"/>
              <a:ext cx="1248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abr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069680" y="3512880"/>
              <a:ext cx="1177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Logistiq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242480" y="4060800"/>
              <a:ext cx="822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ha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43560" y="4608360"/>
              <a:ext cx="831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Ven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214040" y="5708520"/>
              <a:ext cx="918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ina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039440" y="5175000"/>
              <a:ext cx="1369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ahoma"/>
                </a:rPr>
                <a:t>Mktg-Com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971800" y="1219320"/>
              <a:ext cx="5257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ed for external integ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962760" y="198108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ahoma"/>
                </a:rPr>
                <a:t>Company 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3191040" y="555948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191040" y="2359080"/>
            <a:ext cx="1600200" cy="533520"/>
          </a:xfrm>
          <a:prstGeom prst="rect">
            <a:avLst/>
          </a:prstGeom>
          <a:solidFill>
            <a:srgbClr val="1d13eb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191040" y="2892600"/>
            <a:ext cx="1600200" cy="533160"/>
          </a:xfrm>
          <a:prstGeom prst="rect">
            <a:avLst/>
          </a:prstGeom>
          <a:solidFill>
            <a:srgbClr val="00ae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191040" y="3425760"/>
            <a:ext cx="16002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191040" y="3959280"/>
            <a:ext cx="1600200" cy="533520"/>
          </a:xfrm>
          <a:prstGeom prst="rect">
            <a:avLst/>
          </a:prstGeom>
          <a:solidFill>
            <a:srgbClr val="1d1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191040" y="4492800"/>
            <a:ext cx="1600200" cy="533160"/>
          </a:xfrm>
          <a:prstGeom prst="rect">
            <a:avLst/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191040" y="502596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004560" y="2395440"/>
            <a:ext cx="207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sign/Engin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537000" y="3510000"/>
            <a:ext cx="100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Log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415320" y="4052880"/>
            <a:ext cx="1251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Purcha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704040" y="4605480"/>
            <a:ext cx="674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582000" y="5705640"/>
            <a:ext cx="91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358080" y="5172120"/>
            <a:ext cx="1369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Mktg-Co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004560" y="2395440"/>
            <a:ext cx="207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sign/Engin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242160" y="2971800"/>
            <a:ext cx="1599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Manufactu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195280" y="-360"/>
            <a:ext cx="694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Corporate IT expenditures control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T departmen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DSI in French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50 % of company’s total IT expendi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any’s businesse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métiers in French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50% of company’s total IT expendi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6647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Players position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T departm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nd more a « standard » supplier, exposed to fierce competition from other suppl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focus on core competencies and responsibiliti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ategic technical choices and options, the « IT framework » or “Bibl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 systems architecture and “urbanizati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ra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’s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n stop “ru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 production, and IT production control and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ulting to other businesses of the Comp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Players position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« Businesses »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pay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define their requirements and specs, and very often have the last word on selecting IT solutions, contracting development, installation and deployment to other suppliers than the internal IT dep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ten own and manage some 100% independent IT solutions (trad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 conscious and sens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sensitive to quality of services provided (VIP users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Hot topics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T governanc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egal compliance, auditing, reporting (Sarban Oxle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T costs (TCO),  benchmark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lexibility, IT and business “alignment”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40000" y="-360"/>
            <a:ext cx="6804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Professional Services</a:t>
            </a:r>
            <a:endParaRPr b="1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7315200" cy="98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assic academic segmentation 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1d13eb"/>
                </a:solidFill>
                <a:latin typeface="Tahoma"/>
              </a:rPr>
              <a:t>Tangibility/Commitm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1433520" y="3200400"/>
            <a:ext cx="7240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610080" y="2671920"/>
            <a:ext cx="0" cy="342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41960" y="2671920"/>
            <a:ext cx="0" cy="342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03360" y="4648320"/>
            <a:ext cx="7170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97200" y="2565360"/>
            <a:ext cx="1924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3eb"/>
                </a:solidFill>
                <a:latin typeface="Tahoma"/>
              </a:rPr>
              <a:t>RESULTS</a:t>
            </a:r>
            <a:r>
              <a:rPr b="1" lang="en-US" sz="2400" spc="-1" strike="noStrike">
                <a:solidFill>
                  <a:srgbClr val="1d13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91080" y="2492280"/>
            <a:ext cx="1573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3eb"/>
                </a:solidFill>
                <a:latin typeface="Tahoma"/>
              </a:rPr>
              <a:t>M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77680" y="3429000"/>
            <a:ext cx="2626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3eb"/>
                </a:solidFill>
                <a:latin typeface="Tahoma"/>
              </a:rPr>
              <a:t>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3eb"/>
                </a:solidFill>
                <a:latin typeface="Tahoma"/>
              </a:rPr>
              <a:t>TANG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04600" y="4797360"/>
            <a:ext cx="2626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3eb"/>
                </a:solidFill>
                <a:latin typeface="Tahoma"/>
              </a:rPr>
              <a:t>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3eb"/>
                </a:solidFill>
                <a:latin typeface="Tahoma"/>
              </a:rPr>
              <a:t>TANG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35280" y="4797360"/>
            <a:ext cx="2443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specs &amp; price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06560" y="4937040"/>
            <a:ext cx="174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l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wyer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50200" y="3284640"/>
            <a:ext cx="1489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cop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pho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r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381720" y="3197160"/>
            <a:ext cx="20779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tel roo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t a ca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Some corporate spending behaviors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4" name=""/>
          <p:cNvSpPr/>
          <p:nvPr/>
        </p:nvSpPr>
        <p:spPr>
          <a:xfrm>
            <a:off x="900000" y="2349360"/>
            <a:ext cx="7662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065400" y="2057400"/>
            <a:ext cx="133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0ed6"/>
                </a:solidFill>
                <a:latin typeface="Arial"/>
              </a:rPr>
              <a:t>Écon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508640" y="2057400"/>
            <a:ext cx="1968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e00"/>
                </a:solidFill>
                <a:latin typeface="Arial"/>
              </a:rPr>
              <a:t>Pragma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377040" y="2057400"/>
            <a:ext cx="2179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High spen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319560" y="2529000"/>
            <a:ext cx="828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0ed6"/>
                </a:solidFill>
                <a:latin typeface="Arial"/>
              </a:rPr>
              <a:t>s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929120" y="2529000"/>
            <a:ext cx="1127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e00"/>
                </a:solidFill>
                <a:latin typeface="Arial"/>
              </a:rPr>
              <a:t>a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921360" y="2558880"/>
            <a:ext cx="1094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39880" y="3124080"/>
            <a:ext cx="766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839880" y="4008600"/>
            <a:ext cx="766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39880" y="4800600"/>
            <a:ext cx="766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39880" y="5791320"/>
            <a:ext cx="766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987640" y="3397320"/>
            <a:ext cx="1368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0ed6"/>
                </a:solidFill>
                <a:latin typeface="Arial"/>
              </a:rPr>
              <a:t>« manage 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40320" y="3176640"/>
            <a:ext cx="19047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e00"/>
                </a:solidFill>
                <a:latin typeface="Arial"/>
              </a:rPr>
              <a:t>Basic back-office + self service intra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059280" y="4205160"/>
            <a:ext cx="1296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0ed6"/>
                </a:solidFill>
                <a:latin typeface="Arial"/>
              </a:rPr>
              <a:t>70 to 10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070760" y="4205160"/>
            <a:ext cx="793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&lt;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895480" y="4876920"/>
            <a:ext cx="16765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0ed6"/>
                </a:solidFill>
                <a:latin typeface="Arial"/>
              </a:rPr>
              <a:t>Basic web pages, no access to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540320" y="4876920"/>
            <a:ext cx="19047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e00"/>
                </a:solidFill>
                <a:latin typeface="Arial"/>
              </a:rPr>
              <a:t>Web pages + Products specs, orders tracking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838760" y="4205160"/>
            <a:ext cx="1307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e00"/>
                </a:solidFill>
                <a:latin typeface="Arial"/>
              </a:rPr>
              <a:t>50 to 80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102120" y="5835600"/>
            <a:ext cx="1261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0ed6"/>
                </a:solidFill>
                <a:latin typeface="Arial"/>
              </a:rPr>
              <a:t>10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372360" y="4797360"/>
            <a:ext cx="22096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Data access, online ordering, real time order tracking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362640" y="3176640"/>
            <a:ext cx="26020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obust and evolu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Business platform</a:t>
            </a: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+ e-comme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895480" y="2057400"/>
            <a:ext cx="0" cy="403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68360" y="2421000"/>
            <a:ext cx="2424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ny + company’s market(s) grow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39640" y="3357720"/>
            <a:ext cx="2365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solutions nee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11280" y="4149720"/>
            <a:ext cx="2136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eds coverage by ER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58880" y="4876920"/>
            <a:ext cx="190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et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724280" y="5835600"/>
            <a:ext cx="1536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e00"/>
                </a:solidFill>
                <a:latin typeface="Arial"/>
              </a:rPr>
              <a:t>10 </a:t>
            </a:r>
            <a:r>
              <a:rPr b="1" lang="en-US" sz="1600" spc="-1" strike="noStrike" baseline="30000">
                <a:solidFill>
                  <a:srgbClr val="00ae00"/>
                </a:solidFill>
                <a:latin typeface="Arial"/>
              </a:rPr>
              <a:t>2 –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734160" y="5835600"/>
            <a:ext cx="146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10 </a:t>
            </a:r>
            <a:r>
              <a:rPr b="1" lang="en-US" sz="1600" spc="-1" strike="noStrike" baseline="30000">
                <a:solidFill>
                  <a:srgbClr val="cc0000"/>
                </a:solidFill>
                <a:latin typeface="Arial"/>
              </a:rPr>
              <a:t>4-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58880" y="5759280"/>
            <a:ext cx="1868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ternal 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82920" y="1447920"/>
            <a:ext cx="280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P based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495680" y="2057400"/>
            <a:ext cx="0" cy="403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400800" y="2057400"/>
            <a:ext cx="0" cy="403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604360" y="2060640"/>
            <a:ext cx="0" cy="403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Questions ?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" descr=""/>
          <p:cNvPicPr/>
          <p:nvPr/>
        </p:nvPicPr>
        <p:blipFill>
          <a:blip r:embed="rId1"/>
          <a:srcRect l="32307" t="0" r="27128" b="235"/>
          <a:stretch/>
        </p:blipFill>
        <p:spPr>
          <a:xfrm>
            <a:off x="3564000" y="549360"/>
            <a:ext cx="406872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484360" y="189000"/>
            <a:ext cx="48322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6408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2916360" y="0"/>
            <a:ext cx="544356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Les acteurs internes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« Les métiers de l’entreprise »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ls « payent »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éfinissent leurs besoins et souvent choisissent les solutions applicatives dont le développement et le déploiement peuvent être confiés à des t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Quelques applications 100% autonomes (trading par e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ensibles au coû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ensibles au support et à la qualité de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Vos futurs jobs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217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n grande entreprise du type « CIGREF »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électionnés en fonction de la nomenclature des « emplois »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2627280" y="4076640"/>
            <a:ext cx="317196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2446200" y="333360"/>
            <a:ext cx="66978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2484360" y="1413000"/>
            <a:ext cx="518328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Towards integration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779400" y="1568520"/>
            <a:ext cx="1746360" cy="1892160"/>
          </a:xfrm>
          <a:prstGeom prst="rightArrow">
            <a:avLst>
              <a:gd name="adj1" fmla="val 50000"/>
              <a:gd name="adj2" fmla="val 31546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55520" y="3581280"/>
            <a:ext cx="11955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Hours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+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Hourly Rates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ime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he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36600" y="5264280"/>
            <a:ext cx="831960" cy="825480"/>
          </a:xfrm>
          <a:prstGeom prst="rect">
            <a:avLst/>
          </a:prstGeom>
          <a:gradFill rotWithShape="0">
            <a:gsLst>
              <a:gs pos="0">
                <a:srgbClr val="c7c7c7"/>
              </a:gs>
              <a:gs pos="50000">
                <a:srgbClr val="919191"/>
              </a:gs>
              <a:gs pos="100000">
                <a:srgbClr val="c7c7c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6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2627280" y="0"/>
            <a:ext cx="5065920" cy="64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2556000" y="620640"/>
            <a:ext cx="545292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2195640" y="1700280"/>
            <a:ext cx="5616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2916360" y="404640"/>
            <a:ext cx="53244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Questions ?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6647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Software services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business basics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Fondement du « business model » dit « un homme, une heure, un euro », ou </a:t>
            </a: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(1xn)  (1xt)  (1xp) = Revenues (CA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N = </a:t>
            </a:r>
            <a:r>
              <a:rPr b="1" lang="fr-FR" sz="2000" spc="-1" strike="noStrike">
                <a:solidFill>
                  <a:srgbClr val="ff0066"/>
                </a:solidFill>
                <a:latin typeface="Tahoma"/>
              </a:rPr>
              <a:t>effectif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T = taux d’activité, rapport entre jours (heures) facturés et jours (heures) facturables, bref le « </a:t>
            </a:r>
            <a:r>
              <a:rPr b="1" lang="fr-FR" sz="2000" spc="-1" strike="noStrike">
                <a:solidFill>
                  <a:srgbClr val="00ae00"/>
                </a:solidFill>
                <a:latin typeface="Tahoma"/>
              </a:rPr>
              <a:t>tace</a:t>
            </a: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 »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P = prix, tarif, </a:t>
            </a:r>
            <a:r>
              <a:rPr b="1" lang="fr-FR" sz="2000" spc="-1" strike="noStrike">
                <a:solidFill>
                  <a:srgbClr val="1d13eb"/>
                </a:solidFill>
                <a:latin typeface="Tahoma"/>
              </a:rPr>
              <a:t>tjm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7243920" y="3733920"/>
            <a:ext cx="11966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ng te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bed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21680" y="5340240"/>
            <a:ext cx="1042920" cy="825480"/>
          </a:xfrm>
          <a:prstGeom prst="rect">
            <a:avLst/>
          </a:prstGeom>
          <a:gradFill rotWithShape="0">
            <a:gsLst>
              <a:gs pos="0">
                <a:srgbClr val="c7c7c7"/>
              </a:gs>
              <a:gs pos="50000">
                <a:srgbClr val="919191"/>
              </a:gs>
              <a:gs pos="100000">
                <a:srgbClr val="c7c7c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200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Towards integration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5580000" y="3429000"/>
            <a:ext cx="1944360" cy="1682640"/>
            <a:chOff x="5580000" y="3429000"/>
            <a:chExt cx="1944360" cy="1682640"/>
          </a:xfrm>
        </p:grpSpPr>
        <p:sp>
          <p:nvSpPr>
            <p:cNvPr id="170" name=""/>
            <p:cNvSpPr/>
            <p:nvPr/>
          </p:nvSpPr>
          <p:spPr>
            <a:xfrm>
              <a:off x="5580000" y="3429000"/>
              <a:ext cx="1944360" cy="1682640"/>
            </a:xfrm>
            <a:custGeom>
              <a:avLst/>
              <a:gdLst/>
              <a:ahLst/>
              <a:rect l="l" t="t" r="r" b="b"/>
              <a:pathLst>
                <a:path w="1176" h="1060">
                  <a:moveTo>
                    <a:pt x="861" y="450"/>
                  </a:moveTo>
                  <a:lnTo>
                    <a:pt x="868" y="490"/>
                  </a:lnTo>
                  <a:lnTo>
                    <a:pt x="868" y="530"/>
                  </a:lnTo>
                  <a:lnTo>
                    <a:pt x="861" y="640"/>
                  </a:lnTo>
                  <a:lnTo>
                    <a:pt x="831" y="734"/>
                  </a:lnTo>
                  <a:lnTo>
                    <a:pt x="793" y="824"/>
                  </a:lnTo>
                  <a:lnTo>
                    <a:pt x="741" y="904"/>
                  </a:lnTo>
                  <a:lnTo>
                    <a:pt x="674" y="969"/>
                  </a:lnTo>
                  <a:lnTo>
                    <a:pt x="606" y="1019"/>
                  </a:lnTo>
                  <a:lnTo>
                    <a:pt x="524" y="1049"/>
                  </a:lnTo>
                  <a:lnTo>
                    <a:pt x="479" y="1054"/>
                  </a:lnTo>
                  <a:lnTo>
                    <a:pt x="434" y="1059"/>
                  </a:lnTo>
                  <a:lnTo>
                    <a:pt x="389" y="1054"/>
                  </a:lnTo>
                  <a:lnTo>
                    <a:pt x="345" y="1049"/>
                  </a:lnTo>
                  <a:lnTo>
                    <a:pt x="262" y="1019"/>
                  </a:lnTo>
                  <a:lnTo>
                    <a:pt x="195" y="969"/>
                  </a:lnTo>
                  <a:lnTo>
                    <a:pt x="128" y="904"/>
                  </a:lnTo>
                  <a:lnTo>
                    <a:pt x="75" y="824"/>
                  </a:lnTo>
                  <a:lnTo>
                    <a:pt x="38" y="734"/>
                  </a:lnTo>
                  <a:lnTo>
                    <a:pt x="8" y="640"/>
                  </a:lnTo>
                  <a:lnTo>
                    <a:pt x="0" y="530"/>
                  </a:lnTo>
                  <a:lnTo>
                    <a:pt x="8" y="425"/>
                  </a:lnTo>
                  <a:lnTo>
                    <a:pt x="38" y="325"/>
                  </a:lnTo>
                  <a:lnTo>
                    <a:pt x="75" y="235"/>
                  </a:lnTo>
                  <a:lnTo>
                    <a:pt x="128" y="155"/>
                  </a:lnTo>
                  <a:lnTo>
                    <a:pt x="195" y="90"/>
                  </a:lnTo>
                  <a:lnTo>
                    <a:pt x="262" y="40"/>
                  </a:lnTo>
                  <a:lnTo>
                    <a:pt x="307" y="25"/>
                  </a:lnTo>
                  <a:lnTo>
                    <a:pt x="345" y="10"/>
                  </a:lnTo>
                  <a:lnTo>
                    <a:pt x="389" y="5"/>
                  </a:lnTo>
                  <a:lnTo>
                    <a:pt x="434" y="0"/>
                  </a:lnTo>
                  <a:lnTo>
                    <a:pt x="487" y="5"/>
                  </a:lnTo>
                  <a:lnTo>
                    <a:pt x="547" y="20"/>
                  </a:lnTo>
                  <a:lnTo>
                    <a:pt x="599" y="40"/>
                  </a:lnTo>
                  <a:lnTo>
                    <a:pt x="644" y="70"/>
                  </a:lnTo>
                  <a:lnTo>
                    <a:pt x="696" y="110"/>
                  </a:lnTo>
                  <a:lnTo>
                    <a:pt x="734" y="150"/>
                  </a:lnTo>
                  <a:lnTo>
                    <a:pt x="778" y="205"/>
                  </a:lnTo>
                  <a:lnTo>
                    <a:pt x="808" y="260"/>
                  </a:lnTo>
                  <a:lnTo>
                    <a:pt x="1175" y="200"/>
                  </a:lnTo>
                  <a:lnTo>
                    <a:pt x="861" y="450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67640" y="3714840"/>
              <a:ext cx="862920" cy="11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5840280" y="5340240"/>
            <a:ext cx="830520" cy="825480"/>
          </a:xfrm>
          <a:prstGeom prst="rect">
            <a:avLst/>
          </a:prstGeom>
          <a:gradFill rotWithShape="0">
            <a:gsLst>
              <a:gs pos="0">
                <a:srgbClr val="c7c7c7"/>
              </a:gs>
              <a:gs pos="50000">
                <a:srgbClr val="919191"/>
              </a:gs>
              <a:gs pos="100000">
                <a:srgbClr val="c7c7c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9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29000" y="5340240"/>
            <a:ext cx="831960" cy="825480"/>
          </a:xfrm>
          <a:prstGeom prst="rect">
            <a:avLst/>
          </a:prstGeom>
          <a:gradFill rotWithShape="0">
            <a:gsLst>
              <a:gs pos="0">
                <a:srgbClr val="c7c7c7"/>
              </a:gs>
              <a:gs pos="50000">
                <a:srgbClr val="919191"/>
              </a:gs>
              <a:gs pos="100000">
                <a:srgbClr val="c7c7c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8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95400" y="1628640"/>
            <a:ext cx="1746360" cy="1892520"/>
          </a:xfrm>
          <a:prstGeom prst="rightArrow">
            <a:avLst>
              <a:gd name="adj1" fmla="val 50000"/>
              <a:gd name="adj2" fmla="val 31546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71520" y="3645000"/>
            <a:ext cx="11955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ur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urly Rat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52600" y="5327640"/>
            <a:ext cx="831960" cy="825480"/>
          </a:xfrm>
          <a:prstGeom prst="rect">
            <a:avLst/>
          </a:prstGeom>
          <a:gradFill rotWithShape="0">
            <a:gsLst>
              <a:gs pos="0">
                <a:srgbClr val="c7c7c7"/>
              </a:gs>
              <a:gs pos="50000">
                <a:srgbClr val="919191"/>
              </a:gs>
              <a:gs pos="100000">
                <a:srgbClr val="c7c7c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6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63840" y="1631880"/>
            <a:ext cx="1746360" cy="1892520"/>
          </a:xfrm>
          <a:prstGeom prst="rightArrow">
            <a:avLst>
              <a:gd name="adj1" fmla="val 50000"/>
              <a:gd name="adj2" fmla="val 31546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21040" y="5327640"/>
            <a:ext cx="830160" cy="825480"/>
          </a:xfrm>
          <a:prstGeom prst="rect">
            <a:avLst/>
          </a:prstGeom>
          <a:gradFill rotWithShape="0">
            <a:gsLst>
              <a:gs pos="0">
                <a:srgbClr val="c7c7c7"/>
              </a:gs>
              <a:gs pos="50000">
                <a:srgbClr val="919191"/>
              </a:gs>
              <a:gs pos="100000">
                <a:srgbClr val="c7c7c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7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38520" y="3416400"/>
            <a:ext cx="1195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onent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xe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otes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Specs, Prices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71800" y="1644480"/>
            <a:ext cx="1746360" cy="1892520"/>
          </a:xfrm>
          <a:prstGeom prst="rightArrow">
            <a:avLst>
              <a:gd name="adj1" fmla="val 50000"/>
              <a:gd name="adj2" fmla="val 31546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46480" y="3505320"/>
            <a:ext cx="11955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/3rd parti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min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84880" y="1644480"/>
            <a:ext cx="1744560" cy="1892520"/>
          </a:xfrm>
          <a:prstGeom prst="rightArrow">
            <a:avLst>
              <a:gd name="adj1" fmla="val 50000"/>
              <a:gd name="adj2" fmla="val 31546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57760" y="3714840"/>
            <a:ext cx="1197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1d13eb"/>
                </a:solidFill>
                <a:latin typeface="Arial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sul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13eb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l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  "</a:t>
            </a:r>
            <a:r>
              <a:rPr b="1" lang="en-US" sz="1600" spc="-1" strike="noStrike">
                <a:solidFill>
                  <a:srgbClr val="1d13eb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69240" y="1644480"/>
            <a:ext cx="1746000" cy="1892520"/>
          </a:xfrm>
          <a:prstGeom prst="rightArrow">
            <a:avLst>
              <a:gd name="adj1" fmla="val 50000"/>
              <a:gd name="adj2" fmla="val 31546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Busin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Strategies’ convergence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4086360" y="4352760"/>
            <a:ext cx="1182600" cy="1206720"/>
          </a:xfrm>
          <a:prstGeom prst="ellipse">
            <a:avLst/>
          </a:prstGeom>
          <a:gradFill rotWithShape="0">
            <a:gsLst>
              <a:gs pos="0">
                <a:srgbClr val="919191"/>
              </a:gs>
              <a:gs pos="100000">
                <a:srgbClr val="81818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10200" y="1425600"/>
            <a:ext cx="971280" cy="3225600"/>
          </a:xfrm>
          <a:prstGeom prst="downArrow">
            <a:avLst>
              <a:gd name="adj1" fmla="val 50000"/>
              <a:gd name="adj2" fmla="val 166095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4352760"/>
            <a:ext cx="3294000" cy="1054440"/>
          </a:xfrm>
          <a:prstGeom prst="leftArrow">
            <a:avLst>
              <a:gd name="adj1" fmla="val 50000"/>
              <a:gd name="adj2" fmla="val 156153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eneva"/>
              </a:rPr>
              <a:t>Manufactur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87640" y="1413000"/>
            <a:ext cx="1125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30880" y="1413000"/>
            <a:ext cx="1617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eneva"/>
              </a:rPr>
              <a:t>Outsou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57400" y="5641920"/>
            <a:ext cx="556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group builds on its own components, b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seam to move towards 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74880" y="4352760"/>
            <a:ext cx="3292200" cy="1054440"/>
          </a:xfrm>
          <a:prstGeom prst="rightArrow">
            <a:avLst>
              <a:gd name="adj1" fmla="val 50000"/>
              <a:gd name="adj2" fmla="val 156154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SS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44560" y="3355920"/>
            <a:ext cx="1125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ap Gemini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ccentur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24360" y="1984320"/>
            <a:ext cx="119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rosof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45280" y="1984320"/>
            <a:ext cx="2111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irst Data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104240" y="3736800"/>
            <a:ext cx="1477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191120" y="2819520"/>
            <a:ext cx="709560" cy="2133360"/>
          </a:xfrm>
          <a:prstGeom prst="cube">
            <a:avLst>
              <a:gd name="adj" fmla="val 10560"/>
            </a:avLst>
          </a:prstGeom>
          <a:gradFill rotWithShape="0">
            <a:gsLst>
              <a:gs pos="0">
                <a:srgbClr val="a2d0fe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68360" y="115920"/>
            <a:ext cx="6696360" cy="10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C B R Services portfol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889280" y="5413320"/>
            <a:ext cx="6416640" cy="352440"/>
          </a:xfrm>
          <a:prstGeom prst="cube">
            <a:avLst>
              <a:gd name="adj" fmla="val 12462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-Management , Entreprise infrastruc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889280" y="5033880"/>
            <a:ext cx="6416640" cy="319320"/>
          </a:xfrm>
          <a:prstGeom prst="cube">
            <a:avLst>
              <a:gd name="adj" fmla="val 11060"/>
            </a:avLst>
          </a:prstGeom>
          <a:solidFill>
            <a:srgbClr val="99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reprise Applications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715000" y="2819520"/>
            <a:ext cx="690480" cy="2133360"/>
          </a:xfrm>
          <a:prstGeom prst="cube">
            <a:avLst>
              <a:gd name="adj" fmla="val 10560"/>
            </a:avLst>
          </a:prstGeom>
          <a:gradFill rotWithShape="0">
            <a:gsLst>
              <a:gs pos="0">
                <a:srgbClr val="a2d0fe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19640" y="2840040"/>
            <a:ext cx="728640" cy="2133720"/>
          </a:xfrm>
          <a:prstGeom prst="cube">
            <a:avLst>
              <a:gd name="adj" fmla="val 10560"/>
            </a:avLst>
          </a:prstGeom>
          <a:gradFill rotWithShape="0">
            <a:gsLst>
              <a:gs pos="0">
                <a:srgbClr val="a2d0fe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2280" y="1938240"/>
            <a:ext cx="1535400" cy="804960"/>
          </a:xfrm>
          <a:prstGeom prst="cube">
            <a:avLst>
              <a:gd name="adj" fmla="val 10560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16200000">
            <a:off x="5106960" y="3663720"/>
            <a:ext cx="17730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gr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81360" y="2819520"/>
            <a:ext cx="709560" cy="2133360"/>
          </a:xfrm>
          <a:prstGeom prst="cube">
            <a:avLst>
              <a:gd name="adj" fmla="val 10560"/>
            </a:avLst>
          </a:prstGeom>
          <a:gradFill rotWithShape="0">
            <a:gsLst>
              <a:gs pos="0">
                <a:srgbClr val="a2d0fe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17920" y="2819520"/>
            <a:ext cx="757080" cy="2133360"/>
          </a:xfrm>
          <a:prstGeom prst="cube">
            <a:avLst>
              <a:gd name="adj" fmla="val 10560"/>
            </a:avLst>
          </a:prstGeom>
          <a:gradFill rotWithShape="0">
            <a:gsLst>
              <a:gs pos="0">
                <a:srgbClr val="a2d0fe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16200000">
            <a:off x="2669400" y="3493080"/>
            <a:ext cx="207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Break throu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(M&amp;A, Spin Off, ..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6200000">
            <a:off x="3462840" y="3775680"/>
            <a:ext cx="21272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New Module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New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52880" y="2819520"/>
            <a:ext cx="709560" cy="2133360"/>
          </a:xfrm>
          <a:prstGeom prst="cube">
            <a:avLst>
              <a:gd name="adj" fmla="val 10560"/>
            </a:avLst>
          </a:prstGeom>
          <a:gradFill rotWithShape="0">
            <a:gsLst>
              <a:gs pos="0">
                <a:srgbClr val="a2d0fe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6200000">
            <a:off x="4271040" y="3553560"/>
            <a:ext cx="19875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840040"/>
            <a:ext cx="680760" cy="2133720"/>
          </a:xfrm>
          <a:prstGeom prst="cube">
            <a:avLst>
              <a:gd name="adj" fmla="val 10560"/>
            </a:avLst>
          </a:prstGeom>
          <a:gradFill rotWithShape="0">
            <a:gsLst>
              <a:gs pos="0">
                <a:srgbClr val="a2d0fe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16200000">
            <a:off x="5753520" y="3594960"/>
            <a:ext cx="20700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Users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&amp;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240680" y="2840040"/>
            <a:ext cx="760320" cy="2133720"/>
          </a:xfrm>
          <a:prstGeom prst="cube">
            <a:avLst>
              <a:gd name="adj" fmla="val 10560"/>
            </a:avLst>
          </a:prstGeom>
          <a:gradFill rotWithShape="0">
            <a:gsLst>
              <a:gs pos="0">
                <a:srgbClr val="a2d0fe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6200000">
            <a:off x="6527520" y="3546360"/>
            <a:ext cx="19731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08000" y="5877000"/>
            <a:ext cx="6417000" cy="285840"/>
          </a:xfrm>
          <a:prstGeom prst="cube">
            <a:avLst>
              <a:gd name="adj" fmla="val 12462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User Support (Call Center / level 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889280" y="1941480"/>
            <a:ext cx="6492600" cy="388800"/>
          </a:xfrm>
          <a:prstGeom prst="cube">
            <a:avLst>
              <a:gd name="adj" fmla="val 11060"/>
            </a:avLst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nterprise Effective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889280" y="2362320"/>
            <a:ext cx="6492600" cy="414360"/>
          </a:xfrm>
          <a:prstGeom prst="cube">
            <a:avLst>
              <a:gd name="adj" fmla="val 11060"/>
            </a:avLst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nterprise Program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16200000">
            <a:off x="1989360" y="3791880"/>
            <a:ext cx="1946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ll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6200000">
            <a:off x="1326240" y="3804480"/>
            <a:ext cx="1920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First Bui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2280" y="2819520"/>
            <a:ext cx="1535400" cy="2133360"/>
          </a:xfrm>
          <a:prstGeom prst="cube">
            <a:avLst>
              <a:gd name="adj" fmla="val 10560"/>
            </a:avLst>
          </a:prstGeom>
          <a:solidFill>
            <a:srgbClr val="1d13eb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je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52280" y="5033880"/>
            <a:ext cx="1535400" cy="1067040"/>
          </a:xfrm>
          <a:prstGeom prst="cube">
            <a:avLst>
              <a:gd name="adj" fmla="val 1056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178840" y="3962520"/>
            <a:ext cx="6840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19960" y="3962520"/>
            <a:ext cx="6696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458200" y="3962520"/>
            <a:ext cx="6516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34272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IT professionnal services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-246960">
              <a:spcBef>
                <a:spcPts val="451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gmentation based on Business Models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3124080"/>
            <a:ext cx="7734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05040" y="2971800"/>
            <a:ext cx="7662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440160" y="2593800"/>
            <a:ext cx="0" cy="3502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2593800"/>
            <a:ext cx="0" cy="3502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162920" y="2590920"/>
            <a:ext cx="0" cy="3502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133720" y="2590920"/>
            <a:ext cx="133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0ed6"/>
                </a:solidFill>
                <a:latin typeface="Arial"/>
              </a:rPr>
              <a:t>F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365640" y="2590920"/>
            <a:ext cx="1968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e00"/>
                </a:solidFill>
                <a:latin typeface="Arial"/>
              </a:rPr>
              <a:t>On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75280" y="2590920"/>
            <a:ext cx="2179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E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170840" y="2629080"/>
            <a:ext cx="161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13eb"/>
                </a:solidFill>
                <a:latin typeface="Arial"/>
              </a:rPr>
              <a:t>Consulting/SS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16320" y="3062160"/>
            <a:ext cx="74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0ed6"/>
                </a:solidFill>
                <a:latin typeface="Arial"/>
              </a:rPr>
              <a:t>E D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78360" y="3062160"/>
            <a:ext cx="806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e00"/>
                </a:solidFill>
                <a:latin typeface="Arial"/>
              </a:rPr>
              <a:t>A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27680" y="3062160"/>
            <a:ext cx="730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S A 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94600" y="3062160"/>
            <a:ext cx="1403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13eb"/>
                </a:solidFill>
                <a:latin typeface="Arial"/>
              </a:rPr>
              <a:t>ACC. C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06480" y="3505320"/>
            <a:ext cx="766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06480" y="3962520"/>
            <a:ext cx="766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06480" y="4419720"/>
            <a:ext cx="766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06480" y="4876920"/>
            <a:ext cx="766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06480" y="5334120"/>
            <a:ext cx="766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06480" y="5791320"/>
            <a:ext cx="766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52600" y="3557520"/>
            <a:ext cx="1076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0ed6"/>
                </a:solidFill>
                <a:latin typeface="Arial"/>
              </a:rPr>
              <a:t>T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722760" y="3557520"/>
            <a:ext cx="1033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e00"/>
                </a:solidFill>
                <a:latin typeface="Arial"/>
              </a:rPr>
              <a:t>T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63760" y="4052880"/>
            <a:ext cx="1217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0ed6"/>
                </a:solidFill>
                <a:latin typeface="Arial"/>
              </a:rPr>
              <a:t>Ach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799240" y="4052880"/>
            <a:ext cx="793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81400" y="4471920"/>
            <a:ext cx="1047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0ed6"/>
                </a:solidFill>
                <a:latin typeface="Arial"/>
              </a:rPr>
              <a:t>Facto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22760" y="4471920"/>
            <a:ext cx="1163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e00"/>
                </a:solidFill>
                <a:latin typeface="Arial"/>
              </a:rPr>
              <a:t>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112160" y="4471920"/>
            <a:ext cx="1879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13eb"/>
                </a:solidFill>
                <a:latin typeface="Arial"/>
              </a:rPr>
              <a:t>Cl.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746520" y="4052880"/>
            <a:ext cx="1308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e00"/>
                </a:solidFill>
                <a:latin typeface="Arial"/>
              </a:rPr>
              <a:t>Traff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331040" y="4052880"/>
            <a:ext cx="1268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13eb"/>
                </a:solidFill>
                <a:latin typeface="Arial"/>
              </a:rPr>
              <a:t>Sta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095960" y="3557520"/>
            <a:ext cx="2048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13eb"/>
                </a:solidFill>
                <a:latin typeface="Arial"/>
              </a:rPr>
              <a:t>Body Sh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370240" y="4967280"/>
            <a:ext cx="84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0ed6"/>
                </a:solidFill>
                <a:latin typeface="Arial"/>
              </a:rPr>
              <a:t>Glob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364520" y="4967280"/>
            <a:ext cx="133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13eb"/>
                </a:solidFill>
                <a:latin typeface="Arial"/>
              </a:rPr>
              <a:t>Multi Lo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29240" y="4471920"/>
            <a:ext cx="137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219640" y="3573360"/>
            <a:ext cx="2044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Creation (Autho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04920" y="2593800"/>
            <a:ext cx="0" cy="3502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6600" y="3062160"/>
            <a:ext cx="1035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06600" y="3557520"/>
            <a:ext cx="1069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06600" y="4052880"/>
            <a:ext cx="1555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it.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06600" y="4471920"/>
            <a:ext cx="1589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it.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39960" y="4967280"/>
            <a:ext cx="1536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e00"/>
                </a:solidFill>
                <a:latin typeface="Arial"/>
              </a:rPr>
              <a:t>Region/Lo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487840" y="4967280"/>
            <a:ext cx="146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Global/Ni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06600" y="4967280"/>
            <a:ext cx="1326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ograp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6600" y="5424480"/>
            <a:ext cx="1060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373880" y="5424480"/>
            <a:ext cx="131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13eb"/>
                </a:solidFill>
                <a:latin typeface="Arial"/>
              </a:rPr>
              <a:t>Partn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551560" y="5424480"/>
            <a:ext cx="1326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Loyal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7400" y="5424480"/>
            <a:ext cx="1574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0ed6"/>
                </a:solidFill>
                <a:latin typeface="Arial"/>
              </a:rPr>
              <a:t>Scales e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567240" y="5424480"/>
            <a:ext cx="1755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e00"/>
                </a:solidFill>
                <a:latin typeface="Arial"/>
              </a:rPr>
              <a:t>Speci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06600" y="5843520"/>
            <a:ext cx="1301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/Effect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124000" y="5843520"/>
            <a:ext cx="1211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&gt; 150 K 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564000" y="5843520"/>
            <a:ext cx="158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e00"/>
                </a:solidFill>
                <a:latin typeface="Arial"/>
              </a:rPr>
              <a:t>120 – 150 K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591160" y="5843520"/>
            <a:ext cx="1241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200 K 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236000" y="5734080"/>
            <a:ext cx="132228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13eb"/>
                </a:solidFill>
                <a:latin typeface="Arial"/>
              </a:rPr>
              <a:t>100 K € (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03:15:23Z</dcterms:created>
  <dc:creator>Consultant</dc:creator>
  <dc:description/>
  <dc:language>en-US</dc:language>
  <cp:lastModifiedBy>Consultant</cp:lastModifiedBy>
  <dcterms:modified xsi:type="dcterms:W3CDTF">2007-11-11T16:23:21Z</dcterms:modified>
  <cp:revision>7</cp:revision>
  <dc:subject/>
  <dc:title>IT and big companies (Cigref etc.)</dc:title>
</cp:coreProperties>
</file>